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6858000" cy="51482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fdac7"/>
                </a:solidFill>
                <a:latin typeface="Tw Cen MT"/>
              </a:rPr>
              <a:t>Click to move the slide</a:t>
            </a: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A51B-67B3-435D-B005-39951E3FD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4BBA-AA66-4B12-8D70-ECA3E2666C1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DB3B-D233-4AAA-998A-73565BBAF5D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C06C-0BF3-4DDA-B152-3E2C24B7C87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7CA5-11E1-41CE-B31E-EBBA86A0C57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9C21-FBD4-4F8F-BED2-57BC1473700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58D6-CBD2-4ECC-B860-FAC1D93ECDE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880F-AB36-499A-BD04-A98FF7F17BD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6BCE-6212-4655-8493-C3D1B175825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04F1-8D28-4AFD-B5BB-18B7BECF065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3493-41AD-41D1-BB49-01A4E26BF67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DCF1-D19B-4BD1-ABF4-45EBDA9C521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6923-6305-4029-850E-856D16503AB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9027-AC97-4E9E-832A-2032F1BF341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1BB5-8084-414F-908B-E87104D75A7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E2F1-20EB-4902-A0FD-D2FDA87558B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A36D-D870-4F89-A609-2ED88DB0D5C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B407-88CF-4AE7-AC60-C403FE32815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CE60-25D2-4F0B-881F-6A5F27081E8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F5E3-4CDF-49A5-B9A0-B52DB1DE7BE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FB0A-2781-4D5B-BEDB-7687F6205CE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EF68-FF1F-42DF-A3E1-247F20F9821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F5DF-2AAD-412F-8B5B-41C0D785327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F93A-F79A-4C3B-8E7A-B988B892450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7A66-211B-43B4-AE69-50BEF85F787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7EEC-51DB-4966-B0BA-42C65972E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DE20-3C7E-4299-8E24-B8E7B463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EEA0-6A7E-44B9-95B7-6F13633D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8337-D7D2-49F8-94D1-A41D9A19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D87C-8A3B-4A54-BC2D-858CBE60D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91DB-0C7F-4F97-A5E9-42059D3D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D7A0-17A5-4C6F-9D15-72D07147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7A71-67D5-4B17-B765-E21B1108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26DC-411B-4CAA-82E6-A0AFC4F1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ACA1-6DFA-4C6E-B49C-C7265375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34E8-F870-46E1-90E1-B55F4598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602A-877F-477E-AF73-9CAFF0D6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504A-A430-49EA-87EB-950FF1BE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443E-7183-48C0-AE7A-70941663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9943-F7DF-4CB7-9167-ABF63ECC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567A-C939-4406-849F-222BFA69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C5E1-CF61-4A87-B370-596EB63C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F080A8-55F2-4936-B2CB-AFEFCABB6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DBAC4D-3072-42E2-A50E-88CD55D5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B773D1-F52E-4A4D-94C3-B75138E9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1DDFEF-9493-4F41-84D6-4D498C6A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D5D82A-64B5-437E-99CC-6607E7AB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3FAE-ABE1-457D-A8E7-3C799933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8D8677-3015-4CB2-ABEF-CD3276C7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314166-4D94-4833-A809-F7534A00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EBBECA-FD32-496E-9445-4DBFD682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697064-21E4-4D68-95C5-AEE45F0C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6E7385-7819-4AE1-A19F-F439AF4C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65388A-CFFE-4B2E-B813-D9DFAC855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F0C023-ACB1-4EC4-A8E3-DB32C13D5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17F3DB-E406-4721-8E68-D78F81BD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DB7DAC-61CF-4C0F-B19F-B26273BD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BE8D0E-4FAE-4F75-91B5-1BDA3FE8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37C3-7FCE-4835-98B9-88434730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2BB941-FFBF-45EA-B6E6-EBBC6DDC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36AEB6-D886-4D08-9BAB-D07C563A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3D6746-C3FA-4040-A97D-888214AE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F41F4D-A6C9-4314-924C-D6F562CD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437180-E09C-492B-9898-811B63D6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5600EC-230D-46E9-B173-7896D503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B2EA8D-9B3D-46D3-B668-1753E12F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C7DEBC-7ED3-4780-AF3E-297F2B40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ED4E60-816B-426C-9DBF-8E877851B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9D573-05B2-44C0-8DFF-F4F22C1C3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D4F7-ED6F-4DBF-A893-08C7695A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61A06-C97F-4B50-9ECA-3034933A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7313D-6F5D-454F-9049-4F100B8C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D6AD7-D2C5-4140-BDA0-B58E9005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C8C1A-635D-41C7-BC67-21FE433F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76A00-6602-445C-B732-5641BDFA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1812C-727D-4016-8E95-A840B010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59CD8-21C1-426F-9B06-B731B02E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4569F-8D8E-41FF-9F1B-7BBF88CE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1852F-48D6-41D2-B8F3-4A6692E2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43C87-10DD-480B-AE8F-9FABBD31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9DE4-5519-4F87-A997-BB809A8E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20A60-07D5-4B24-B4F2-41523A2B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67634-2E2C-4638-B11A-019173FE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7F66D-6440-4820-BCC1-EFFD555D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096C9-3ABD-4393-97F1-ED387114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5B088-AF2B-47D4-ABF6-B64E4FC8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78996-7AB8-4141-B34C-8FB53E78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7886C-310E-4DDD-9C2F-F3EA9B61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7B03F-E6B3-42F0-B34D-B6E310BA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388E8-DA2A-43B9-B94F-040201AA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56229-06AC-4F76-9816-A2F82FE2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5591-B971-405E-9F67-EE01116B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054F4-0304-4F2A-A0B3-46048E28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99016-D250-4725-A010-251C7C68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FDDB8-8C19-4D6C-88D9-CD6338BA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4868-481A-4723-89B5-CC062518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C646-C941-4AF2-9C43-38E8D42D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Click to edit the title text format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7960" indent="-2379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477720" indent="-2030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684360" indent="-16992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027080" indent="-1699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1370160" indent="-16992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1370160" indent="-16992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1370160" indent="-16992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0" y="4691160"/>
            <a:ext cx="200016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4691160"/>
            <a:ext cx="406548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927000"/>
            <a:ext cx="685800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960480"/>
            <a:ext cx="399960" cy="17136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960480"/>
            <a:ext cx="6415200" cy="171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-360" y="955440"/>
            <a:ext cx="399960" cy="182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A0A3-BC35-400C-B26E-08C1E7A5F5E8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6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4483080"/>
            <a:ext cx="6858000" cy="66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6480" y="4543560"/>
            <a:ext cx="1685880" cy="53640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1770120" y="4537080"/>
            <a:ext cx="5087880" cy="5349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fdac7"/>
                </a:solidFill>
                <a:latin typeface="Tw Cen MT"/>
              </a:rPr>
              <a:t>Click to edit the title text format</a:t>
            </a: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7960" indent="-2379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lvl="1" marL="477720" indent="-2030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lvl="2" marL="684360" indent="-16992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lvl="3" marL="1027080" indent="-1699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lvl="4" marL="1370160" indent="-16992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lvl="5" marL="1370160" indent="-169920">
              <a:spcBef>
                <a:spcPts val="524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lvl="6" marL="1370160" indent="-169920">
              <a:spcBef>
                <a:spcPts val="524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7240" y="4555800"/>
            <a:ext cx="1542960" cy="5144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2A7B-FCA3-4916-9C14-B0BCF717552D}" type="datetime"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563480" y="177480"/>
            <a:ext cx="4400280" cy="274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000840" y="171360"/>
            <a:ext cx="628560" cy="2858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dfdac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6AFC-0782-48EB-82A1-4A206BCB0EF8}" type="slidenum">
              <a:rPr b="1" lang="en-US" sz="1100" spc="-1" strike="noStrike">
                <a:solidFill>
                  <a:srgbClr val="dfdac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144440"/>
            <a:ext cx="6858000" cy="85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01680"/>
            <a:ext cx="971640" cy="74304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028880" y="1201680"/>
            <a:ext cx="5829120" cy="7430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Click to edit the title text format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7960" indent="-2379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477720" indent="-2030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684360" indent="-16992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027080" indent="-1699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1370160" indent="-16992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1370160" indent="-16992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1370160" indent="-16992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0" y="4691160"/>
            <a:ext cx="200016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64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547A-3159-4D73-BAAC-1273043529B6}" type="datetime">
              <a:rPr b="0" lang="en-US" sz="1100" spc="-1" strike="noStrike">
                <a:solidFill>
                  <a:srgbClr val="59564b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-360" y="1316160"/>
            <a:ext cx="971640" cy="527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A895-EAAA-48BA-8999-D0BB03D82DB4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456840" y="4691160"/>
            <a:ext cx="406548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-6480" y="3432240"/>
            <a:ext cx="6858000" cy="66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-6480" y="3500280"/>
            <a:ext cx="1096920" cy="53676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1158840" y="3494160"/>
            <a:ext cx="5699160" cy="5349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1085760" y="0"/>
            <a:ext cx="76320" cy="515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Click to edit the title text format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7960" indent="-2379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477720" indent="-2030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684360" indent="-16992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027080" indent="-1699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1370160" indent="-16992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1370160" indent="-16992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1370160" indent="-16992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686480" y="4691160"/>
            <a:ext cx="200016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sldNum" idx="11"/>
          </p:nvPr>
        </p:nvSpPr>
        <p:spPr>
          <a:xfrm>
            <a:off x="0" y="3503160"/>
            <a:ext cx="1085760" cy="49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2958-CB9E-4AA5-B42B-187FBEC5BC9E}" type="slidenum"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12"/>
          </p:nvPr>
        </p:nvSpPr>
        <p:spPr>
          <a:xfrm>
            <a:off x="1199880" y="4691160"/>
            <a:ext cx="342900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4572000" y="0"/>
            <a:ext cx="239760" cy="51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4606920" y="457200"/>
            <a:ext cx="171360" cy="4691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4606920" y="0"/>
            <a:ext cx="171360" cy="39996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Click to edit the title text format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7960" indent="-2379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477720" indent="-2030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684360" indent="-16992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027080" indent="-1699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1370160" indent="-16992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1370160" indent="-16992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1370160" indent="-16992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914720" y="4691160"/>
            <a:ext cx="165708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43080" y="4691160"/>
            <a:ext cx="417960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 rot="5400000">
            <a:off x="4492440" y="107280"/>
            <a:ext cx="399960" cy="184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EE90-7608-4C36-BA93-1259F420E201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0" y="927000"/>
            <a:ext cx="685800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0" y="960480"/>
            <a:ext cx="399960" cy="17136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442800" y="960480"/>
            <a:ext cx="6415200" cy="171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Click to edit the title text format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7960" indent="-2379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477720" indent="-2030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684360" indent="-16992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027080" indent="-1699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1370160" indent="-16992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1370160" indent="-16992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1370160" indent="-16992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514080" y="4707000"/>
            <a:ext cx="1428840" cy="34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2343240" y="4707000"/>
            <a:ext cx="2171520" cy="34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4915080" y="4707000"/>
            <a:ext cx="1428480" cy="34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77E6-DCA7-4EDD-8721-C8BFA7057069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19160" y="896400"/>
            <a:ext cx="3809880" cy="13734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fdac7"/>
                </a:solidFill>
                <a:latin typeface="Tw Cen MT"/>
              </a:rPr>
              <a:t>THE EVOLUTION OF MANAGEMENT THOUGHT, 6</a:t>
            </a:r>
            <a:r>
              <a:rPr b="0" lang="en-US" sz="3000" spc="-1" strike="noStrike" baseline="30000">
                <a:solidFill>
                  <a:srgbClr val="dfdac7"/>
                </a:solidFill>
                <a:latin typeface="Tw Cen MT"/>
              </a:rPr>
              <a:t>TH</a:t>
            </a:r>
            <a:r>
              <a:rPr b="0" lang="en-US" sz="3000" spc="-1" strike="noStrike">
                <a:solidFill>
                  <a:srgbClr val="dfdac7"/>
                </a:solidFill>
                <a:latin typeface="Tw Cen MT"/>
              </a:rPr>
              <a:t> EDITION</a:t>
            </a:r>
            <a:endParaRPr b="0" lang="en-US" sz="30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828800" y="4554360"/>
            <a:ext cx="5029200" cy="594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w Cen MT"/>
              </a:rPr>
              <a:t>Electronic Resource by: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w Cen MT"/>
              </a:rPr>
              <a:t>Regina Greenwood and Julia Teahen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274" name="Picture 5" descr="Wren_Cover_30.jpg"/>
          <p:cNvPicPr/>
          <p:nvPr/>
        </p:nvPicPr>
        <p:blipFill>
          <a:blip r:embed="rId1"/>
          <a:stretch/>
        </p:blipFill>
        <p:spPr>
          <a:xfrm>
            <a:off x="152280" y="210960"/>
            <a:ext cx="259092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64b"/>
                </a:solidFill>
                <a:latin typeface="Tw Cen MT"/>
              </a:rPr>
              <a:t>The American System of Manufactures</a:t>
            </a:r>
            <a:endParaRPr b="0" lang="en-US" sz="24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89000"/>
          </a:bodyPr>
          <a:p>
            <a:pPr marL="211680" indent="-21168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anufacture by interchangeable parts was not new – previously confined to making muskets and revolver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11680" indent="-21168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 Springfield (MA) Armory was an early factory prototyp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25160" indent="-180360">
              <a:lnSpc>
                <a:spcPct val="9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250 employees – largest factory in the U.S. until after the Civil War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425160" indent="-180360">
              <a:lnSpc>
                <a:spcPct val="9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Organized by Colonel Roswell Lee in 1815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425160" indent="-180360">
              <a:lnSpc>
                <a:spcPct val="9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Used piece rate incentive payments and accounting system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425160" indent="-180360">
              <a:lnSpc>
                <a:spcPct val="9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Labor was more specialized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425160" indent="-180360">
              <a:lnSpc>
                <a:spcPct val="9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Uniform standards promoted interchangeability of parts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152280" y="4707000"/>
            <a:ext cx="6324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64b"/>
                </a:solidFill>
                <a:latin typeface="Tw Cen MT"/>
                <a:ea typeface="Arial"/>
              </a:rPr>
              <a:t>Peterson, Eric.  "Springfield Armory National Historic Site."  28 May 2007.  HowStuffWorks.com.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64b"/>
                </a:solidFill>
                <a:latin typeface="Tw Cen MT"/>
                <a:ea typeface="Arial"/>
              </a:rPr>
              <a:t>&lt;http://adventure.howstuffworks.com/springfield-armory-national-historic-site.htm&gt;  04 December 2008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Springfield Armory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pic>
        <p:nvPicPr>
          <p:cNvPr id="302" name="Content Placeholder 3" descr="SpringfieldArmory.jpg"/>
          <p:cNvPicPr/>
          <p:nvPr/>
        </p:nvPicPr>
        <p:blipFill>
          <a:blip r:embed="rId1"/>
          <a:srcRect l="0" t="-38767" r="0" b="-38767"/>
          <a:stretch/>
        </p:blipFill>
        <p:spPr>
          <a:xfrm>
            <a:off x="457200" y="1193760"/>
            <a:ext cx="2914560" cy="3432240"/>
          </a:xfrm>
          <a:prstGeom prst="rect">
            <a:avLst/>
          </a:prstGeom>
          <a:ln w="0">
            <a:noFill/>
          </a:ln>
        </p:spPr>
      </p:pic>
      <p:pic>
        <p:nvPicPr>
          <p:cNvPr id="303" name="Content Placeholder 6" descr="springfield-armory-national-historic-site-1.jpg"/>
          <p:cNvPicPr/>
          <p:nvPr/>
        </p:nvPicPr>
        <p:blipFill>
          <a:blip r:embed="rId2"/>
          <a:srcRect l="0" t="-33139" r="0" b="-33139"/>
          <a:stretch/>
        </p:blipFill>
        <p:spPr>
          <a:xfrm>
            <a:off x="3633840" y="1193760"/>
            <a:ext cx="2914560" cy="343224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4"/>
          <p:cNvSpPr/>
          <p:nvPr/>
        </p:nvSpPr>
        <p:spPr>
          <a:xfrm>
            <a:off x="3657600" y="4021200"/>
            <a:ext cx="2819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64b"/>
                </a:solidFill>
                <a:latin typeface="Tw Cen MT"/>
                <a:ea typeface="Arial"/>
              </a:rPr>
              <a:t>Peterson, Eric.  "Springfield Armory National Historic Site."  28 May 2007.  HowStuffWorks.com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64b"/>
                </a:solidFill>
                <a:latin typeface="Tw Cen MT"/>
                <a:ea typeface="Arial"/>
              </a:rPr>
              <a:t>http://adventure.howstuffworks.com/springfield-armory-national-historic-site.htm04 December 2008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533520" y="3944880"/>
            <a:ext cx="2781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64b"/>
                </a:solidFill>
                <a:latin typeface="Tw Cen MT"/>
                <a:ea typeface="Arial"/>
              </a:rPr>
              <a:t>http://freepages.history.rootsweb.ancestry.com/~dickbolt/SpfldMADownTown.html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64b"/>
                </a:solidFill>
                <a:latin typeface="Tw Cen MT"/>
              </a:rPr>
              <a:t>The American System of Manufactures</a:t>
            </a:r>
            <a:endParaRPr b="0" lang="en-US" sz="30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0000"/>
          </a:bodyPr>
          <a:p>
            <a:pPr marL="213840" indent="-21384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deas spread to other areas of manufacturing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29840" indent="-182520">
              <a:lnSpc>
                <a:spcPct val="9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Ex: The reaper by Cyrus McCormick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13840" indent="-21384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 “American System” received its name at the exposition of 1851 in London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13840" indent="-21384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U.S. factories remained relatively small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13840" indent="-21384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 McLane report of 1832 found the firms were mostly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29840" indent="-182520">
              <a:lnSpc>
                <a:spcPct val="9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Family owned and managed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429840" indent="-182520">
              <a:lnSpc>
                <a:spcPct val="9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Few corporations – unlimited liability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429840" indent="-182520">
              <a:lnSpc>
                <a:spcPct val="9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Little use of steam power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429840" indent="-182520">
              <a:lnSpc>
                <a:spcPct val="9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Similar to findings of Andrew Ure regarding English firm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64b"/>
                </a:solidFill>
                <a:latin typeface="Tw Cen MT"/>
              </a:rPr>
              <a:t>The Railroads: Pioneering in U.S. Management</a:t>
            </a:r>
            <a:endParaRPr b="0" lang="en-US" sz="24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7960" indent="-2379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rst “big business” in the U.S. – developed c. 1830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7960" indent="-2379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tarted the transportation revolution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7960" indent="-2379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acilitated U.S. industry move from local markets to national markets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7960" indent="-2379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Railroads had size and complexity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7960" indent="-2379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Required a management system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10" name="Picture 5" descr="historybirthpict"/>
          <p:cNvPicPr/>
          <p:nvPr/>
        </p:nvPicPr>
        <p:blipFill>
          <a:blip r:embed="rId1"/>
          <a:stretch/>
        </p:blipFill>
        <p:spPr>
          <a:xfrm>
            <a:off x="990720" y="3868560"/>
            <a:ext cx="5143320" cy="105120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6"/>
          <p:cNvSpPr/>
          <p:nvPr/>
        </p:nvSpPr>
        <p:spPr>
          <a:xfrm>
            <a:off x="1600200" y="4896000"/>
            <a:ext cx="380988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000" spc="-1" strike="noStrike">
                <a:solidFill>
                  <a:srgbClr val="59564b"/>
                </a:solidFill>
                <a:latin typeface="Tw Cen MT"/>
              </a:rPr>
              <a:t>Courtesy of </a:t>
            </a:r>
            <a:r>
              <a:rPr b="0" lang="en-US" sz="1000" spc="-1" strike="noStrike">
                <a:solidFill>
                  <a:srgbClr val="59564b"/>
                </a:solidFill>
                <a:latin typeface="Tw Cen MT"/>
                <a:ea typeface="Times New Roman"/>
              </a:rPr>
              <a:t>Association of American Railroads (AAR)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14440" y="399960"/>
            <a:ext cx="58291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Communication Revolution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pic>
        <p:nvPicPr>
          <p:cNvPr id="313" name="Picture 6" descr="mrsimg"/>
          <p:cNvPicPr/>
          <p:nvPr/>
        </p:nvPicPr>
        <p:blipFill>
          <a:blip r:embed="rId1"/>
          <a:srcRect l="-1061" t="0" r="-1061" b="0"/>
          <a:stretch/>
        </p:blipFill>
        <p:spPr>
          <a:xfrm>
            <a:off x="514440" y="1373040"/>
            <a:ext cx="2838240" cy="326088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505320" y="1373040"/>
            <a:ext cx="3200400" cy="3260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4000"/>
          </a:bodyPr>
          <a:p>
            <a:pPr marL="240120" indent="-24012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 2" charset="2"/>
              <a:buChar char="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w Cen MT"/>
              </a:rPr>
              <a:t>Telegraph, patented by Samuel Morse in 1837, started concurrent  revolution in communication.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40120" indent="-24012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 2" charset="2"/>
              <a:buChar char="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w Cen MT"/>
              </a:rPr>
              <a:t>By 1860, about 50,000 miles of wires extended over the eastern U.S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40120" indent="-24012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 2" charset="2"/>
              <a:buChar char="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w Cen MT"/>
              </a:rPr>
              <a:t>Dramatic effect on business communication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40120" indent="-24012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 2" charset="2"/>
              <a:buChar char="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w Cen MT"/>
              </a:rPr>
              <a:t>Facilitated U.S. industry move from local markets to national markets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40120" indent="-24012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 2" charset="2"/>
              <a:buChar char="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w Cen MT"/>
              </a:rPr>
              <a:t>Richard Sears used the telegraph to see gold watches – the first electronic commerce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401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401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230120" y="4554360"/>
            <a:ext cx="1033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64b"/>
                </a:solidFill>
                <a:latin typeface="Tw Cen MT"/>
              </a:rPr>
              <a:t>Samuel Mors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64b"/>
                </a:solidFill>
                <a:latin typeface="Tw Cen MT"/>
              </a:rPr>
              <a:t>The Age of Rails: Daniel McCallum</a:t>
            </a:r>
            <a:endParaRPr b="0" lang="en-US" sz="30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193760"/>
            <a:ext cx="2914560" cy="3432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87000"/>
          </a:bodyPr>
          <a:p>
            <a:pPr marL="207000" indent="-20700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Developed a system of managing on the Erie Railroad: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415440" indent="-176400"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pecific job description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415440" indent="-176400"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Accurate performance report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415440" indent="-176400"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Merit basis for pay and promotion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415440" indent="-176400"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Organizational chart to show lines of authority, responsibility, and communication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415440" indent="-176400"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Use of telegraph for dispatching trains and checking on performanc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18" name="Picture 6" descr="daniel_mccallum"/>
          <p:cNvPicPr/>
          <p:nvPr/>
        </p:nvPicPr>
        <p:blipFill>
          <a:blip r:embed="rId1"/>
          <a:srcRect l="-167" t="0" r="-167" b="0"/>
          <a:stretch/>
        </p:blipFill>
        <p:spPr>
          <a:xfrm>
            <a:off x="3633840" y="1193760"/>
            <a:ext cx="2914560" cy="343224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7"/>
          <p:cNvSpPr/>
          <p:nvPr/>
        </p:nvSpPr>
        <p:spPr>
          <a:xfrm>
            <a:off x="3657600" y="4630680"/>
            <a:ext cx="262908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200" spc="-1" strike="noStrike">
                <a:solidFill>
                  <a:srgbClr val="59564b"/>
                </a:solidFill>
                <a:latin typeface="Tw Cen MT"/>
              </a:rPr>
              <a:t>Daniel McCallum, Circa 186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Daniel McCallum (1815-1878)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7960" indent="-2379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ystem of management relied on division of labor, personal responsibility, and organization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7960" indent="-2379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Developed a formal organization chart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7960" indent="-2379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Developed highest state of the art information management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Daniel McCallum </a:t>
            </a:r>
            <a:r>
              <a:rPr b="0" lang="en-US" sz="2800" spc="-1" strike="noStrike">
                <a:solidFill>
                  <a:srgbClr val="59564b"/>
                </a:solidFill>
                <a:latin typeface="Tw Cen MT"/>
              </a:rPr>
              <a:t>(1815-1878)</a:t>
            </a:r>
            <a:endParaRPr b="0" lang="en-US" sz="28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193760"/>
            <a:ext cx="2914560" cy="3432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1000"/>
          </a:bodyPr>
          <a:p>
            <a:pPr marL="216360" indent="-2163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Lost his job when the locomotive engineers would not follow his rules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434520" indent="-184680">
              <a:lnSpc>
                <a:spcPct val="9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Workers were on strike for ten days in June 1854 then 6 months in 1857 in defiance of McCallum’s system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16360" indent="-2163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Successful career building bridges and served as master of the Union’s railroads in the Civil War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24" name="Content Placeholder 4" descr="mccallum.jpg"/>
          <p:cNvPicPr/>
          <p:nvPr/>
        </p:nvPicPr>
        <p:blipFill>
          <a:blip r:embed="rId1"/>
          <a:srcRect l="-12101" t="0" r="-12101" b="0"/>
          <a:stretch/>
        </p:blipFill>
        <p:spPr>
          <a:xfrm>
            <a:off x="3633840" y="1193760"/>
            <a:ext cx="291456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Erie Railroad Organizational Chart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pic>
        <p:nvPicPr>
          <p:cNvPr id="326" name="Picture 4" descr="Photo0013"/>
          <p:cNvPicPr/>
          <p:nvPr/>
        </p:nvPicPr>
        <p:blipFill>
          <a:blip r:embed="rId1"/>
          <a:srcRect l="-13331" t="0" r="-13331" b="0"/>
          <a:stretch/>
        </p:blipFill>
        <p:spPr>
          <a:xfrm>
            <a:off x="457200" y="1193760"/>
            <a:ext cx="2914560" cy="34322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3633840" y="1193760"/>
            <a:ext cx="2914560" cy="3432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7960" indent="-2379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s is perhaps the first organizational chart ever ma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37960" indent="-2379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cCallum created the organizational chart to explain the Erie Railroad Opera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Rectangle 9"/>
          <p:cNvSpPr/>
          <p:nvPr/>
        </p:nvSpPr>
        <p:spPr>
          <a:xfrm>
            <a:off x="-25200" y="4904640"/>
            <a:ext cx="45255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64b"/>
                </a:solidFill>
                <a:latin typeface="Tw Cen MT"/>
              </a:rPr>
              <a:t>Erie Railroad Organization Chart of 1855.  Library of Congress, Haer, N.Y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35000"/>
            <a:ext cx="5829480" cy="74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64b"/>
                </a:solidFill>
                <a:latin typeface="Tw Cen MT"/>
              </a:rPr>
              <a:t>Henry V. Poor </a:t>
            </a:r>
            <a:r>
              <a:rPr b="0" lang="en-US" sz="2300" spc="-1" strike="noStrike">
                <a:solidFill>
                  <a:srgbClr val="59564b"/>
                </a:solidFill>
                <a:latin typeface="Tw Cen MT"/>
              </a:rPr>
              <a:t>(1812-1905 )</a:t>
            </a:r>
            <a:br>
              <a:rPr sz="2400"/>
            </a:br>
            <a:r>
              <a:rPr b="0" lang="en-US" sz="2400" spc="-1" strike="noStrike">
                <a:solidFill>
                  <a:srgbClr val="59564b"/>
                </a:solidFill>
                <a:latin typeface="Tw Cen MT"/>
              </a:rPr>
              <a:t>A Broader Management View</a:t>
            </a:r>
            <a:endParaRPr b="0" lang="en-US" sz="2400" spc="-1" strike="noStrike">
              <a:solidFill>
                <a:srgbClr val="59564b"/>
              </a:solidFill>
              <a:latin typeface="Tw Cen MT"/>
            </a:endParaRPr>
          </a:p>
        </p:txBody>
      </p:sp>
      <p:pic>
        <p:nvPicPr>
          <p:cNvPr id="330" name="Picture 6" descr="henry_poor"/>
          <p:cNvPicPr/>
          <p:nvPr/>
        </p:nvPicPr>
        <p:blipFill>
          <a:blip r:embed="rId1"/>
          <a:srcRect l="0" t="-10728" r="0" b="-10728"/>
          <a:stretch/>
        </p:blipFill>
        <p:spPr>
          <a:xfrm>
            <a:off x="514440" y="1373040"/>
            <a:ext cx="2838240" cy="326088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505320" y="1373040"/>
            <a:ext cx="2838240" cy="3260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6000"/>
          </a:bodyPr>
          <a:p>
            <a:pPr marL="228240" indent="-22824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Editor of the American Railroad Journal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28240" indent="-22824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Became “conscience” of first U.S. big business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28240" indent="-22824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Looked for broader principles of railroad operations (financing, regulation, and role of U.S. Railroad in life)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28240" indent="-22824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Developed three principles based on McCallum’s ideas: organization, information, and communication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609480" y="4402080"/>
            <a:ext cx="262908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200" spc="-1" strike="noStrike">
                <a:solidFill>
                  <a:srgbClr val="59564b"/>
                </a:solidFill>
                <a:latin typeface="Tw Cen MT"/>
              </a:rPr>
              <a:t>Henry Varnum Po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1028880" y="2058480"/>
            <a:ext cx="5341680" cy="1256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64b"/>
                </a:solidFill>
                <a:latin typeface="Tw Cen MT"/>
              </a:rPr>
              <a:t>The Industrial Revolution in the United State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1028520" y="1201680"/>
            <a:ext cx="5715000" cy="743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w Cen MT"/>
              </a:rPr>
              <a:t>Chapter Five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Henry V. Poor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193760"/>
            <a:ext cx="2914560" cy="3432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9000"/>
          </a:bodyPr>
          <a:p>
            <a:pPr marL="235440" indent="-23544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In later work, Poor felt the answer to problems of top management was through better leadership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472680" indent="-200880">
              <a:lnSpc>
                <a:spcPct val="9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Unity in the organiza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72680" indent="-200880">
              <a:lnSpc>
                <a:spcPct val="9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lecting leaders on meri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72680" indent="-200880">
              <a:lnSpc>
                <a:spcPct val="90000"/>
              </a:lnSpc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eveloping better information system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35440" indent="-23544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35" name="Picture 6" descr="steamrrengine01"/>
          <p:cNvPicPr/>
          <p:nvPr/>
        </p:nvPicPr>
        <p:blipFill>
          <a:blip r:embed="rId1"/>
          <a:stretch/>
        </p:blipFill>
        <p:spPr>
          <a:xfrm>
            <a:off x="3627360" y="1189080"/>
            <a:ext cx="2925720" cy="344340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7"/>
          <p:cNvSpPr/>
          <p:nvPr/>
        </p:nvSpPr>
        <p:spPr>
          <a:xfrm>
            <a:off x="3429000" y="4782960"/>
            <a:ext cx="32767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64b"/>
                </a:solidFill>
                <a:latin typeface="Arial"/>
                <a:ea typeface="Arial"/>
              </a:rPr>
              <a:t>Courtesy of Pics4Learning. http://pics.tech4learning.com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George Hudson – “Railway King”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193760"/>
            <a:ext cx="2914560" cy="3432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7960" indent="-23796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Paid dividends out of capital, both existing and borrowed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37960" indent="-23796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Altered accounts of railway traffic and revenue to indicate more profit than actually existed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37960" indent="-23796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Published false statements to investors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37960" indent="-23796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Bought iron rails from one of his lines and sold them to another of his interests for a £6,000 profit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39" name="Content Placeholder 4" descr="george hudson.jpg"/>
          <p:cNvPicPr/>
          <p:nvPr/>
        </p:nvPicPr>
        <p:blipFill>
          <a:blip r:embed="rId1"/>
          <a:srcRect l="0" t="-28543" r="0" b="-28543"/>
          <a:stretch/>
        </p:blipFill>
        <p:spPr>
          <a:xfrm>
            <a:off x="3633840" y="1193760"/>
            <a:ext cx="291456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1028880" y="2058480"/>
            <a:ext cx="5341680" cy="1256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6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9564b"/>
                </a:solidFill>
                <a:latin typeface="Tw Cen MT"/>
              </a:rPr>
              <a:t>How to The “Railway King’s” practices compare with other examples of executive illegal and unethical behavior?</a:t>
            </a:r>
            <a:r>
              <a:rPr b="0" lang="en-US" sz="2100" spc="-1" strike="noStrike">
                <a:solidFill>
                  <a:srgbClr val="59564b"/>
                </a:solidFill>
                <a:latin typeface="Tw Cen MT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1028520" y="1201680"/>
            <a:ext cx="5715000" cy="743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w Cen MT"/>
              </a:rPr>
              <a:t>Discussion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42" name="TextBox 7"/>
          <p:cNvSpPr/>
          <p:nvPr/>
        </p:nvSpPr>
        <p:spPr>
          <a:xfrm>
            <a:off x="1752480" y="4097160"/>
            <a:ext cx="48769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775f55"/>
                </a:solidFill>
                <a:latin typeface="Tahoma"/>
              </a:rPr>
              <a:t>“</a:t>
            </a:r>
            <a:r>
              <a:rPr b="0" i="1" lang="en-US" sz="1200" spc="-1" strike="noStrike">
                <a:solidFill>
                  <a:srgbClr val="775f55"/>
                </a:solidFill>
                <a:latin typeface="Tahoma"/>
              </a:rPr>
              <a:t>A long-forgotten document has shed new light on the career of the disgraced York railway pioneer, George Hudson.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775f55"/>
                </a:solidFill>
                <a:latin typeface="Tahoma"/>
              </a:rPr>
              <a:t>BBC News, 2 May, 200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Emerging Governance Issues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6000"/>
          </a:bodyPr>
          <a:p>
            <a:pPr marL="228240" indent="-22824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Early industries were partnerships or sole proprietorships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8240" indent="-22824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Railroads, requiring large amounts of capital, saw the growth of joint-stock companies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8240" indent="-22824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Without uniform, adequate laws in Great Britain, management malfeasance occurred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8240" indent="-22824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Henry Poor wrote about the need for government regulation but not control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8240" indent="-22824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Summary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7960" indent="-2379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rom independence to 1860, the U.S. grew and developed industry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7960" indent="-2379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s period was critical to development of the modern enterprise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7960" indent="-2379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Railroads and the telegraph allowed firms to grow for economies of scale and scope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7960" indent="-2379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anagers were required for large, complex organizations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7960" indent="-2379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Quality of life for people was improving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The USA Economy before 1861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9000"/>
          </a:bodyPr>
          <a:p>
            <a:pPr marL="235440" indent="-23544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ritish mercantilism kept the U.S. as a colony which delayed economic developmen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35440" indent="-23544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Great Britain prohibited the sale of manufacturing equipment and emigration of skilled labor to U.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35440" indent="-23544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dam Smith influenced writing of the U.S. Constitution and economic system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35440" indent="-23544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Earliest factories were textile mill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35440" indent="-23544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ommonwealth vs. Hunt 1842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35440" indent="-23544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merican System of Manufactures – manufacture by interchangeable par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35440" indent="-23544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ailroad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14440" y="399960"/>
            <a:ext cx="58291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64b"/>
                </a:solidFill>
                <a:latin typeface="Tw Cen MT"/>
              </a:rPr>
              <a:t>Early Industrial Development– Textile Mills</a:t>
            </a:r>
            <a:endParaRPr b="0" lang="en-US" sz="2400" spc="-1" strike="noStrike">
              <a:solidFill>
                <a:srgbClr val="59564b"/>
              </a:solidFill>
              <a:latin typeface="Tw Cen MT"/>
            </a:endParaRPr>
          </a:p>
        </p:txBody>
      </p:sp>
      <p:pic>
        <p:nvPicPr>
          <p:cNvPr id="280" name="Picture 7" descr="textile_mill"/>
          <p:cNvPicPr/>
          <p:nvPr/>
        </p:nvPicPr>
        <p:blipFill>
          <a:blip r:embed="rId1"/>
          <a:srcRect l="0" t="-35747" r="0" b="-35747"/>
          <a:stretch/>
        </p:blipFill>
        <p:spPr>
          <a:xfrm>
            <a:off x="514440" y="1373040"/>
            <a:ext cx="2838240" cy="326088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505320" y="1373040"/>
            <a:ext cx="2838240" cy="3260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4000"/>
          </a:bodyPr>
          <a:p>
            <a:pPr marL="223560" indent="-2235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Largest industry at the time was textile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3560" indent="-2235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Even though the textile industry was the largest business, factories were still small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3560" indent="-22356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hoto” on the left depicts an early textile mill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Textile Mills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pic>
        <p:nvPicPr>
          <p:cNvPr id="283" name="Picture 6" descr="samuel_slater"/>
          <p:cNvPicPr/>
          <p:nvPr/>
        </p:nvPicPr>
        <p:blipFill>
          <a:blip r:embed="rId1"/>
          <a:srcRect l="-12674" t="0" r="-12674" b="0"/>
          <a:stretch/>
        </p:blipFill>
        <p:spPr>
          <a:xfrm>
            <a:off x="457200" y="1193760"/>
            <a:ext cx="2914560" cy="34322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3633840" y="1193760"/>
            <a:ext cx="2914560" cy="3432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9000"/>
          </a:bodyPr>
          <a:p>
            <a:pPr marL="252720" indent="-252720">
              <a:lnSpc>
                <a:spcPct val="8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 2" charset="2"/>
              <a:buChar char="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Tw Cen MT"/>
              </a:rPr>
              <a:t>Samuel Slater – “Rhode Island System”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507240" indent="-248040">
              <a:lnSpc>
                <a:spcPct val="80000"/>
              </a:lnSpc>
              <a:spcBef>
                <a:spcPts val="414"/>
              </a:spcBef>
              <a:buClr>
                <a:srgbClr val="4d0000"/>
              </a:buClr>
              <a:buSzPct val="70000"/>
              <a:buFont typeface="Wingdings 2" charset="2"/>
              <a:buChar char="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Tw Cen MT"/>
              </a:rPr>
              <a:t>Very similar to practice and personnel policies existing in Great Britain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507240" indent="-248040">
              <a:lnSpc>
                <a:spcPct val="80000"/>
              </a:lnSpc>
              <a:spcBef>
                <a:spcPts val="414"/>
              </a:spcBef>
              <a:buClr>
                <a:srgbClr val="4d0000"/>
              </a:buClr>
              <a:buSzPct val="70000"/>
              <a:buFont typeface="Wingdings 2" charset="2"/>
              <a:buChar char="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Tw Cen MT"/>
              </a:rPr>
              <a:t>First to use steam-driven power looms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507240" indent="-248040">
              <a:lnSpc>
                <a:spcPct val="80000"/>
              </a:lnSpc>
              <a:spcBef>
                <a:spcPts val="414"/>
              </a:spcBef>
              <a:buClr>
                <a:srgbClr val="4d0000"/>
              </a:buClr>
              <a:buSzPct val="70000"/>
              <a:buFont typeface="Wingdings 2" charset="2"/>
              <a:buChar char="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Tw Cen MT"/>
              </a:rPr>
              <a:t>Relied on sole proprietorship or partnership form of ownership initially.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507240" indent="-248040">
              <a:lnSpc>
                <a:spcPct val="80000"/>
              </a:lnSpc>
              <a:spcBef>
                <a:spcPts val="414"/>
              </a:spcBef>
              <a:buClr>
                <a:srgbClr val="4d0000"/>
              </a:buClr>
              <a:buSzPct val="70000"/>
              <a:buFont typeface="Wingdings 2" charset="2"/>
              <a:buChar char="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Tw Cen MT"/>
              </a:rPr>
              <a:t>Relied on family for labor – with growth had to hire professional managers.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507240" indent="-248040">
              <a:lnSpc>
                <a:spcPct val="80000"/>
              </a:lnSpc>
              <a:spcBef>
                <a:spcPts val="414"/>
              </a:spcBef>
              <a:buClr>
                <a:srgbClr val="4d0000"/>
              </a:buClr>
              <a:buSzPct val="70000"/>
              <a:buFont typeface="Wingdings 2" charset="2"/>
              <a:buChar char="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Tw Cen MT"/>
              </a:rPr>
              <a:t>Vertically integrated operations forward and backward.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507240" indent="-248040">
              <a:lnSpc>
                <a:spcPct val="80000"/>
              </a:lnSpc>
              <a:spcBef>
                <a:spcPts val="414"/>
              </a:spcBef>
              <a:buClr>
                <a:srgbClr val="4d0000"/>
              </a:buClr>
              <a:buSzPct val="70000"/>
              <a:buFont typeface="Wingdings 2" charset="2"/>
              <a:buChar char="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857160" y="4633920"/>
            <a:ext cx="222912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100" spc="-1" strike="noStrike">
                <a:solidFill>
                  <a:srgbClr val="59564b"/>
                </a:solidFill>
                <a:latin typeface="Tw Cen MT"/>
              </a:rPr>
              <a:t>Samuel Slater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135000"/>
            <a:ext cx="5829120" cy="74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700" spc="-1" strike="noStrike">
                <a:solidFill>
                  <a:srgbClr val="59564b"/>
                </a:solidFill>
                <a:latin typeface="Tw Cen MT"/>
              </a:rPr>
              <a:t>Textile Mill at Pawtucket, Rhode Island</a:t>
            </a:r>
            <a:endParaRPr b="0" lang="en-US" sz="2700" spc="-1" strike="noStrike">
              <a:solidFill>
                <a:srgbClr val="59564b"/>
              </a:solidFill>
              <a:latin typeface="Tw Cen MT"/>
            </a:endParaRPr>
          </a:p>
        </p:txBody>
      </p:sp>
      <p:pic>
        <p:nvPicPr>
          <p:cNvPr id="287" name="Picture 5" descr="mill_pawtucket"/>
          <p:cNvPicPr/>
          <p:nvPr/>
        </p:nvPicPr>
        <p:blipFill>
          <a:blip r:embed="rId1"/>
          <a:stretch/>
        </p:blipFill>
        <p:spPr>
          <a:xfrm>
            <a:off x="399960" y="1601640"/>
            <a:ext cx="3086280" cy="20671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mill_pawtucket_present"/>
          <p:cNvPicPr/>
          <p:nvPr/>
        </p:nvPicPr>
        <p:blipFill>
          <a:blip r:embed="rId2"/>
          <a:stretch/>
        </p:blipFill>
        <p:spPr>
          <a:xfrm>
            <a:off x="3714840" y="1601640"/>
            <a:ext cx="2905200" cy="19717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7"/>
          <p:cNvSpPr/>
          <p:nvPr/>
        </p:nvSpPr>
        <p:spPr>
          <a:xfrm>
            <a:off x="1200240" y="3946680"/>
            <a:ext cx="2514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3733920" y="3660840"/>
            <a:ext cx="28954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59564b"/>
                </a:solidFill>
                <a:latin typeface="Tw Cen MT"/>
              </a:rPr>
              <a:t>Mill – present day reconstru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380880" y="3792600"/>
            <a:ext cx="23432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59564b"/>
                </a:solidFill>
                <a:latin typeface="Tw Cen MT"/>
              </a:rPr>
              <a:t>Depiction of Mi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Textile Mills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7960" indent="-2379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rancis Lowell – “Waltham System”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477720" indent="-203040"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Used water-power loom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77720" indent="-203040"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Hired non-family supervisors &amp; managers with corporate model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77720" indent="-203040"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Used integrated spinning and weaving to manufacture goods in large quantitie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77720" indent="-203040"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lied on adult female labor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77720" indent="-203040">
              <a:spcBef>
                <a:spcPts val="41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aised by Charles Dickens for better treatment of employee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37960" indent="-2379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Resources from Waltham, MA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7960" indent="-2379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harles River Museum of Industry and Innovati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7960" indent="-2379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Waltham Museum Inc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7960" indent="-2379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Waltham Public Library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7960" indent="-2379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National Archives, Northeast Region, Bost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7960" indent="-2379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Commonwealth v. Hunt (1842)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7960" indent="-2379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Worker combinations (unions) were no longer illegal unless their intent was criminal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7960" indent="-2379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eking a closed shop and striking were no longer illegal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7960" indent="-2379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Only applied to Massachusetts but discouraged prosecution of worker organizations elsewhere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2:48:36Z</dcterms:created>
  <dc:creator>Regina Greenwood and Julia Teahen</dc:creator>
  <dc:description/>
  <cp:keywords/>
  <dc:language>en-US</dc:language>
  <cp:lastModifiedBy>Administratr</cp:lastModifiedBy>
  <cp:lastPrinted>2009-04-22T19:24:48Z</cp:lastPrinted>
  <dcterms:modified xsi:type="dcterms:W3CDTF">2009-08-05T20:00:16Z</dcterms:modified>
  <cp:revision>286</cp:revision>
  <dc:subject/>
  <dc:title>The Evolution of Management Thought, 6th ed</dc:title>
</cp:coreProperties>
</file>