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05C-7C44-4E1A-939B-D750D59F0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E2C7-0DD0-43AC-8B9D-3B92E65E90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047-025C-4795-A2E4-7435BD1598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9993-D43B-4051-9459-BFC8AEFE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7CB0-95CB-4D19-AE5F-0EBC344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33EBE-DF7D-42DE-A0DB-CC943911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F4424-B541-48C2-8E30-2653E69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9007-E6AA-472B-9072-548E732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9D5FF-692F-49FC-90E6-C60FEB7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54EC4-5F7E-4012-AEEB-B162C8B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68134-E174-4AED-8027-1DFA32D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07F2D-271A-44A6-BF21-F8A8302B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719DB-4DA2-460C-8A15-3B6BED58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AC1BB-6D27-4E79-9253-508B722F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F58C0-A140-489E-BF95-DAE09ED7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020D-431D-4BEA-9075-32C3B719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78A6F-BDB4-45A2-8710-B81F727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E17C8-A878-42C6-906B-7A88E6F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B15D47-E103-4511-95C5-EAC1117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4C69A-FA57-4F56-BBF6-BAE26478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E9D0F0-E52E-4C5B-9D37-CDAE589F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5AEF08-8F2E-4071-869F-EBD8AE0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CA7698-382A-455F-A5E1-DE2BD08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0F7C44-2E36-4D8A-94A0-0584622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77B56-2FAE-44BE-B299-77559F0C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E6D55A-FFF8-4E0D-97A6-2DC847C3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AD48-1977-47B2-87DA-358714B9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667A0-C084-4A6B-900F-9AB5ABA1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955D2-8FEB-4959-A76B-63259D24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143AA-3E02-4449-8804-C343BAEA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8DE7-E365-4A9A-B46C-ECC35EE7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F14B4-DB78-4E2C-8169-BD934BB4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7AE27-1740-49EE-9720-DC65C8F6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990ED-7CBB-4C92-A094-CE5F501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17993-2238-4752-B685-620BE96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3B6F6-DC53-459E-89F6-EE63D54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FCDB6-9A4E-48AC-9673-C9F4666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C98A-4FCE-4B83-B2E6-DA4D9728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A28D-A4B7-4C63-8AED-BC67A950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3BE91-B39E-431C-B7DE-23C2F4ED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D50AD-2E41-4674-BB18-ED4EBA2F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F0506A-B3CE-4433-8BAA-7D642D2D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B9076A-2C21-44DB-9A50-9C385F4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C89483-E9CA-4121-B647-AE2EF54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FD6F8E-84B7-4F57-AC45-70F4894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CBDA68-0CD9-44EF-8366-6F035D4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E36DD8-113C-498D-B406-2246819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F86A88-AF57-43E9-A99A-A8667EF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964-49A6-494C-B198-C0B972B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AEE28F-814D-40BB-AA52-1CFFD32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DD1E0B-FD93-4096-95B3-3048986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89BE64-6E66-49E7-AEA7-19A8AF26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905453-61DC-4F9A-AA75-BC2D8C9B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DC376E-FBC0-4ED7-94C4-23ED2902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182ED-8284-4F06-81B8-41DDBA1A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D29F9-29E4-47F6-962B-0398215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DE563-9EE6-4BCF-98AD-B0BF43D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FFF04-2670-4033-A920-77D27EA0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9F152-EAF5-4720-BF8B-83DCF68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7393-3BA2-4A66-A4F1-4588C0C3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B2D4E-A521-4D55-A1BF-0C5148EB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4E47D-F4EC-421E-BA90-19C49D4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9AED3-CA17-464F-A242-847D8D8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09C96-A1FF-47DD-9C17-C1579DF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226E5-FBD7-4E18-9E1E-6A1EB146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C8894-0EF4-4376-BD9F-A8611232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62F53-DB5C-4252-801C-2C03CE5F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1852-56F1-4465-95C2-EB034E48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AF12-B6C4-44D0-8887-BF3C000D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4035-9D56-44E2-A798-4B01763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59A1-4694-462F-A7C1-B8AEC1FE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1413-8EE1-49A5-B9EA-B4FA886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A410-9324-4BB7-AADD-6203CCE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934-104D-48AD-B33F-0D89B33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15F8-F583-4CFD-803B-8ED093C1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9403-7FFC-4B39-9FB1-3F192966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DA17-6E5F-4382-BFF6-80892D29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091D-BCDE-4579-893C-9DC8B367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3BD1-32F3-47A1-83F2-D1EB9F7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CD40-8206-401F-BFBC-B14C87C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4D95-2B3D-4924-879D-E357396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BF69-D22F-4223-A684-36D7A21B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73BB-214D-41FE-A142-3D36F48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8F5C2-15FD-41D1-91EA-5076C05E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A624-BB81-4349-B40D-77F6B4C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9C8C-582B-494B-A983-55745C7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D049-F628-48BB-A8A9-04710646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A03F-4A39-49D4-A1A5-4C6FFFD7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44E3-6746-4B18-86BF-2166C84A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CD8C-B81D-44EB-BA81-B87EA8AA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CC30-1065-4C88-922C-A4C1D3F4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0D4E-0F90-496B-827B-A9A3D08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6152-09F8-4787-A462-94F2377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C421-8335-413F-8D70-0F328E04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A729-95CF-4ADF-8F6D-A09D1A2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2756-A8A8-478F-BBB3-15DFE66B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3680-4F7F-4C50-A864-C34CB324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A5FF-8B94-419B-B990-BE4C235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26D7-FFC1-489C-880E-7A2313E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E356-46ED-4D61-907A-C524508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242B-E6FA-469C-BBC5-2A26B68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5FCE-B7DF-49DB-AE93-4DA2FEB7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B95B-681D-4091-A2F0-70DED370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DA4E-DE69-4918-A0AD-AA362F01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5F2F-3794-405D-ABAD-A69BC01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FAE9-D23E-4902-89CF-EC0B97AD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AD3D-5F90-47C1-89FC-32ADDFB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8F83-DBEB-4EE7-B22D-E373A8AE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AF79-EF35-4EAD-BCAB-945EC062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0F00-1E70-4369-9AA6-19CB3BD5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E702-12D3-40B3-9453-B3FAE5CA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A6D7-531C-41EE-85FC-28D4148D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6DD10-D6C9-4188-BB8F-75F94CF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244D-9B77-4D0F-A4BF-ED70565A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366F-97D7-4D0C-AA50-59669E0B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F2D8-E279-4037-8856-E001F4A6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1F4FE-60A7-414A-AF9E-BEF506FF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5E18E-680E-4A5B-9AB0-A2B0E250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97AC2-B5A8-42CB-8711-4679CC7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B1987-434D-421B-9150-8417E047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B2E0A-E293-4B18-9244-9960BA4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5996E-99C9-45C3-A9DB-FA09CDDD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64FAF-430D-49FC-9CD4-56A05A35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73F09-D654-40D2-9BAD-806D1F6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A9B32-816F-4F70-B204-840901A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85D13-C2B2-44D0-B2ED-7464470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64BD-46C7-438D-906C-3256BF9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AF4AE-E966-4C47-901D-29D1FA2A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EED67-AD59-4FC0-BEC6-774F0F1D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0B27C-D8AE-49C9-B7EE-8E4EDC28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92DCF-C959-4E02-86E2-F35546CF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BA91-8FEF-4F14-9C6C-2569CB3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CDF11-4B2E-496B-82F5-A65C2CD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682B-5993-45F1-91E1-C6192069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9943-3D25-485E-8B8D-5689C66C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676F-326E-4FBC-A7A3-6CC62DD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1605-40F6-4E6B-87FC-0C47070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DAFB-3A01-4BAC-A516-19DEC18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9068-9900-4709-81B2-F60FB6D9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91B42-5FCF-424D-B528-179165B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CA6F-360D-486B-95FB-AB73331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F4C7-3573-47EC-B4D7-F7A3824F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89FC4-761D-4DF4-BE4A-14EC0A4F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6B947-D585-4E29-BBE7-8F3A47EA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DF1AE-C3A9-463B-B5AC-9A47F23F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AF167-326C-40C3-BB60-EAC2B8C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3E29-E7C7-4405-925B-157DD3EC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D54A2-0667-4DA0-88BC-5E11A81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B6CB-0D32-4F2E-8B4D-2EC7FCF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7634-1F3F-4DB3-A6B6-D3C35DE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FE0B8-982B-4431-8E1C-B649E7C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E608-CD8D-4A42-982C-96C523E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B9907-EA60-405B-B51E-16FCCB0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192FD-FF6D-4807-AC68-0F10F202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75209-48F5-4D3C-8218-9ECC3CD7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19B59-1103-4D06-BB0B-FE995F50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298B8-5ADC-49CC-A302-6BE0D0EE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F7679-639E-4835-AB64-9FC99CF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CBDD-247A-49A1-B68E-936DBBE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380880" y="898560"/>
            <a:ext cx="647712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955800"/>
            <a:ext cx="380880" cy="5522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A5EE-9831-43B8-8312-6FB02979FC82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Date Placeholder 27"/>
          <p:cNvSpPr/>
          <p:nvPr/>
        </p:nvSpPr>
        <p:spPr>
          <a:xfrm>
            <a:off x="0" y="3489480"/>
            <a:ext cx="15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A58-083A-41A3-80E6-BFEFBF7149C5}" type="datetime">
              <a:rPr b="0" lang="en-US" sz="15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0" y="898560"/>
            <a:ext cx="463680" cy="61272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0" y="1144440"/>
            <a:ext cx="68580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0" y="1201680"/>
            <a:ext cx="971640" cy="74304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1028880" y="1201680"/>
            <a:ext cx="5829120" cy="74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-360" y="1316160"/>
            <a:ext cx="971640" cy="527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2063-0BD1-4167-A86A-8094C2380BD8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-360" y="4690800"/>
            <a:ext cx="399960" cy="285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5956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763A-FDA8-4538-A184-78050A722293}" type="slidenum">
              <a:rPr b="1" lang="en-US" sz="1100" spc="-1" strike="noStrike">
                <a:solidFill>
                  <a:srgbClr val="59564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9"/>
          <p:cNvSpPr/>
          <p:nvPr/>
        </p:nvSpPr>
        <p:spPr>
          <a:xfrm>
            <a:off x="-6480" y="3432240"/>
            <a:ext cx="685800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-6480" y="3500280"/>
            <a:ext cx="1096920" cy="5367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1158840" y="3494160"/>
            <a:ext cx="569916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1085760" y="0"/>
            <a:ext cx="7632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68648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35"/>
          </p:nvPr>
        </p:nvSpPr>
        <p:spPr>
          <a:xfrm>
            <a:off x="0" y="3503160"/>
            <a:ext cx="1085760" cy="49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467-02FD-43AA-BFC3-BD66E41C9125}" type="slidenum"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6"/>
          </p:nvPr>
        </p:nvSpPr>
        <p:spPr>
          <a:xfrm>
            <a:off x="1199880" y="4691160"/>
            <a:ext cx="34290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0575-91CB-4F74-A7CF-1B15F91D8FA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2720" y="1201320"/>
            <a:ext cx="61722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D931-78EF-4256-B4AC-7A2EFCC1BC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24B9-27D1-4670-A798-7A939C9D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720" y="1201320"/>
            <a:ext cx="61722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E76-32CB-4E78-9640-6BEC8A2695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B881-E2F0-493B-9B1B-FF2E72E3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621C-3DA9-49A8-A42C-1D90C5DE9B3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42800" y="960480"/>
            <a:ext cx="6415200" cy="171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-360" y="955440"/>
            <a:ext cx="399960" cy="18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9B92-0BD2-4000-B37F-6BBD043FF2F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80880" y="898560"/>
            <a:ext cx="647712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te Placeholder 27"/>
          <p:cNvSpPr/>
          <p:nvPr/>
        </p:nvSpPr>
        <p:spPr>
          <a:xfrm>
            <a:off x="0" y="3489480"/>
            <a:ext cx="15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D2B-F6D3-45C9-9C50-B317A92E3536}" type="datetime">
              <a:rPr b="0" lang="en-US" sz="15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898560"/>
            <a:ext cx="463680" cy="61272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7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DB3-2B33-43B0-BF63-2FD301404A9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8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91E6-32C5-485F-B929-2D89C78D084A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4BAA-9C07-47F9-AC5C-CDB9264F379A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CE74-DDA4-46DC-9C9D-1BFF781E770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963A-31AE-4D2A-A981-FC7FEADB785D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theodoreroosevelt.org/" TargetMode="External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ytimes.com/2007/05/12/business/12chandler.html?ex=1336622400&amp;en=e2ee90739ec38390&amp;ei=5088&amp;partner=rssnyt&amp;emc=rss" TargetMode="External"/><Relationship Id="rId3" Type="http://schemas.openxmlformats.org/officeDocument/2006/relationships/hyperlink" Target="http://www.hbs.edu/news/releases/051107_chandler.html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he%20Henry%20Ford%20Museum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henryfordestate.com/" TargetMode="External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19160" y="896400"/>
            <a:ext cx="3809880" cy="1373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ac7"/>
                </a:solidFill>
                <a:latin typeface="Arial"/>
              </a:rPr>
              <a:t>THE EVOLUTION OF MANAGEMENT THOUGHT, 6</a:t>
            </a:r>
            <a:r>
              <a:rPr b="0" lang="en-US" sz="3200" spc="-1" strike="noStrike" baseline="30000">
                <a:solidFill>
                  <a:srgbClr val="dfdac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fdac7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828800" y="4554360"/>
            <a:ext cx="5029200" cy="594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ectronic Resource b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ina Greenwood and Julia Tea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Wren_Cover.pdf"/>
          <p:cNvPicPr/>
          <p:nvPr/>
        </p:nvPicPr>
        <p:blipFill>
          <a:blip r:embed="rId1"/>
          <a:stretch/>
        </p:blipFill>
        <p:spPr>
          <a:xfrm>
            <a:off x="152280" y="185760"/>
            <a:ext cx="25909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Social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1000"/>
          </a:bodyPr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Horatio Alger, Jr. characterized the “success” ethic of U.S. enterprise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Scientific management ideas were consonant with the social values of self-directing, high need for achievement, individual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Change came as the Western frontier closed; William G.  Scott called this the Collision Effect, which would lead to a transition period of individualism being replaced by a social ethic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Taylor’s “cooperation, not individualism” bridged the gap between the social and individualistic ethics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4" name="Content Placeholder 9" descr="hectors in heritance.gif"/>
          <p:cNvPicPr/>
          <p:nvPr/>
        </p:nvPicPr>
        <p:blipFill>
          <a:blip r:embed="rId1"/>
          <a:srcRect l="-7908" t="0" r="-7908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Social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Social Gospel shaped personnel management acting as a counterpoint to social Darwinism and precursor to progressivis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ollowers of the Social Gospel, like Robert G. Valentine, thought unions were instruments of social and economic refor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reciprocal work-welfare equation linked the progressives and scientific manag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fficiency was also advocated by conservationists, feminists, and religious leader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Political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30040" indent="-23004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political articulation of the Social Gospel was the Populist-Progressive Mov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cientific management appealed to the Progressives, especially Morris Cook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cientific management offered leadership by expertise and knowledge, not class, so it appealed to moderate Progressives like Louis Brandeis, Herbert Croly, and Walter Lippma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rcRect l="-21771" t="0" r="-21771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5"/>
          <p:cNvSpPr/>
          <p:nvPr/>
        </p:nvSpPr>
        <p:spPr>
          <a:xfrm>
            <a:off x="4419720" y="4630680"/>
            <a:ext cx="167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Lewis Hine (1915)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Political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12" name="Picture 5" descr="TRoosevelt consitution org"/>
          <p:cNvPicPr/>
          <p:nvPr/>
        </p:nvPicPr>
        <p:blipFill>
          <a:blip r:embed="rId1"/>
          <a:srcRect l="0" t="-4575" r="0" b="-4575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0000"/>
          </a:bodyPr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n increasing regulation of business under </a:t>
            </a:r>
            <a:r>
              <a:rPr b="0" lang="en-US" sz="1600" spc="-1" strike="noStrike" u="sng">
                <a:solidFill>
                  <a:srgbClr val="ef8e1c"/>
                </a:solidFill>
                <a:uFillTx/>
                <a:latin typeface="Tw Cen MT"/>
                <a:hlinkClick r:id="rId2"/>
              </a:rPr>
              <a:t>Theodore Roosevelt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fter 1901  overcame the inadequacies of the earlier Sherman Act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ax rate comparison – Underwood-Simmons Tariff Act of 1913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31280" indent="-18432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% on personal incomes over $3,000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31280" indent="-18432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rtax added progressively on incomes up to $20,000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31280" indent="-18432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ximum tax rate of 7% on incomes in excess of $500,000 (compared to 35%  today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762120" y="4556160"/>
            <a:ext cx="217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Theodore Roosevelt,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courtesy of the Constitution Socie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771560" y="4541400"/>
            <a:ext cx="5029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5" descr="figure 12-2.gif"/>
          <p:cNvPicPr/>
          <p:nvPr/>
        </p:nvPicPr>
        <p:blipFill>
          <a:blip r:embed="rId1"/>
          <a:stretch/>
        </p:blipFill>
        <p:spPr>
          <a:xfrm>
            <a:off x="1130400" y="173160"/>
            <a:ext cx="4597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ummary of Part Two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ylor was the focus for a deeper philosophy of managing human and physical resources in a more technologically advanced worl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ylor’s disciples improved productivity and service to societ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yol and Weber, Taylor’s contemporaries, also reflected a rational approach to enterpris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ylor and his followers were affected by and did affect the tim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Part Two Internet Resource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List of Internet Resources compiled by Charles Booth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rederick Winslow Taylor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www.accel-team.com/scientific/scientific_02.html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ascinating Facts about Frederick Winslow Taylo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www.ideafinder.com/history/inventors/taylor.htm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Who Made America – Frederick Winslow Taylo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www.pbs.org/wgbh/theymadeamerica/whomade/taylor_lo.html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ilms of Westinghouse Works – 1904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ttp://memory.loc.gov/ammem/papr/west/westhome.html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71560" y="3032280"/>
            <a:ext cx="4857840" cy="137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END OF PART TWO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pic>
        <p:nvPicPr>
          <p:cNvPr id="622" name="Picture Placeholder 5" descr="Wren_Cover_30.jpg"/>
          <p:cNvPicPr/>
          <p:nvPr/>
        </p:nvPicPr>
        <p:blipFill>
          <a:blip r:embed="rId1"/>
          <a:srcRect l="-82704" t="0" r="-82704" b="0"/>
          <a:stretch/>
        </p:blipFill>
        <p:spPr>
          <a:xfrm>
            <a:off x="533520" y="363600"/>
            <a:ext cx="56880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Scientific Management in Retrospec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CHAPTER TWELVE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cientific Management in Retrospec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conomic Environ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ocial Environ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Political Environ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Economic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United States was in transition from an agrarian to an industrial nation. In this period of growth, scientific management provided a means whereby a better utilization of resources could occu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U.S. worker prospered, both in real wages and reduced hours of work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re employees were in management with the addition of staff specialists. This growth in managerial hierarchy made it more critical to plan, organize, et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Economic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582" name="Picture 4" descr="achandler2"/>
          <p:cNvPicPr/>
          <p:nvPr/>
        </p:nvPicPr>
        <p:blipFill>
          <a:blip r:embed="rId1"/>
          <a:srcRect l="-11367" t="0" r="-11367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30040" indent="-2300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f8e1c"/>
                </a:solidFill>
                <a:uFillTx/>
                <a:latin typeface="Tw Cen MT"/>
                <a:hlinkClick r:id="rId2"/>
              </a:rPr>
              <a:t>Alfred Chandler’s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ationalization of resource utilization describes the needs of industry during this era. The ideas of the scientific management pioneers fit these need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dustrial efficiency was increasing, partially due to scientific manag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533520" y="4572000"/>
            <a:ext cx="2685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ef8e1c"/>
                </a:solidFill>
                <a:uFillTx/>
                <a:latin typeface="Tw Cen MT"/>
                <a:hlinkClick r:id="rId3"/>
              </a:rPr>
              <a:t>Alfred D. Chandler                             </a:t>
            </a:r>
            <a:r>
              <a:rPr b="0" lang="en-US" sz="1100" spc="-1" strike="noStrike">
                <a:solidFill>
                  <a:srgbClr val="59564b"/>
                </a:solidFill>
                <a:latin typeface="Tw Cen MT"/>
              </a:rPr>
              <a:t>Courtesy of Harvard Business Schoo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Economic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America was uniquely diverse 1890-1920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migrants were 80% of New York’s populatio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ore Irish lived in the US than in Ireland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71% of Ford’s labor force was foreign bor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eveloping systems and procedures and standardization was more important with the heterogeneous workforce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Productivity increased due to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ethods of mass productio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aylorism (Scientific Management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eaper sources of power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7" name="Content Placeholder 6" descr="1909 model t.gif"/>
          <p:cNvPicPr/>
          <p:nvPr/>
        </p:nvPicPr>
        <p:blipFill>
          <a:blip r:embed="rId1"/>
          <a:srcRect l="0" t="-42916" r="0" b="-42916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4419720" y="386856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The 1909 Model 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echnology: Opening New Horizon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20320" indent="-2203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nterprises developed and grew – 247 of the Fortune 500 were founded from 1880-1929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0320" indent="-2203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ew technologies developed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Bessemer process in stee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Oil refining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nternal combustion engin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ynthetic materi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elephony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Electric energy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1" name="Content Placeholder 9" descr="bessemer process.gif"/>
          <p:cNvPicPr/>
          <p:nvPr/>
        </p:nvPicPr>
        <p:blipFill>
          <a:blip r:embed="rId1"/>
          <a:srcRect l="-3947" t="0" r="-3947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3424320" y="25686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"/>
          <p:cNvPicPr/>
          <p:nvPr/>
        </p:nvPicPr>
        <p:blipFill>
          <a:blip r:embed="rId3"/>
          <a:stretch/>
        </p:blipFill>
        <p:spPr>
          <a:xfrm>
            <a:off x="3424320" y="25686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8"/>
          <p:cNvSpPr/>
          <p:nvPr/>
        </p:nvSpPr>
        <p:spPr>
          <a:xfrm>
            <a:off x="4267080" y="49338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4374000" y="4707000"/>
            <a:ext cx="156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Bessemer process in stee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echnology: Opening New Horizon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5000"/>
          </a:bodyPr>
          <a:p>
            <a:pPr marL="227520" indent="-2275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automobile changed people’s lives and created a new industr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7520" indent="-2275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f8e1c"/>
                </a:solidFill>
                <a:uFillTx/>
                <a:latin typeface="Tw Cen MT"/>
                <a:hlinkClick r:id="rId1"/>
              </a:rPr>
              <a:t>Henry Ford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, Charles Sorenson and their associates  at Ford created the moving assembly line for mass productio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5400" indent="-19440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910 –   2,773 workers produced 18,664 car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55400" indent="-19440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914 – 12,880 workers produced 248,307 car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55400" indent="-19440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227520" indent="-2275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8" name="Content Placeholder 6" descr="hford portrait.gif"/>
          <p:cNvPicPr/>
          <p:nvPr/>
        </p:nvPicPr>
        <p:blipFill>
          <a:blip r:embed="rId2"/>
          <a:srcRect l="-9518" t="0" r="-9518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4629600" y="4707000"/>
            <a:ext cx="845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f8e1c"/>
                </a:solidFill>
                <a:uFillTx/>
                <a:latin typeface="Tahoma"/>
                <a:hlinkClick r:id="rId3"/>
              </a:rPr>
              <a:t>Henry For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Social Environ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01" name="Picture 3" descr="Figure 12-1"/>
          <p:cNvPicPr/>
          <p:nvPr/>
        </p:nvPicPr>
        <p:blipFill>
          <a:blip r:embed="rId1"/>
          <a:stretch/>
        </p:blipFill>
        <p:spPr>
          <a:xfrm>
            <a:off x="1143000" y="1127160"/>
            <a:ext cx="44956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2:48:26Z</dcterms:created>
  <dc:creator>Julia Teahen</dc:creator>
  <dc:description/>
  <dc:language>en-US</dc:language>
  <cp:lastModifiedBy>Administratr</cp:lastModifiedBy>
  <cp:lastPrinted>2009-04-22T19:24:48Z</cp:lastPrinted>
  <dcterms:modified xsi:type="dcterms:W3CDTF">2009-08-05T20:53:54Z</dcterms:modified>
  <cp:revision>349</cp:revision>
  <dc:subject/>
  <dc:title>Seminar One </dc:title>
</cp:coreProperties>
</file>