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4740-584F-46E3-B06A-D34C87A90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A775-98F6-46F5-A7F8-D0BBAC6B71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D41B-096B-4704-AE10-4FDDB1F1A7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44E5-4599-49F3-8AD5-5460369A58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EAFE-9B68-4DA2-884C-4BDB9FFE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F1F8-9544-4534-ADC7-33340468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131D6-8B74-46D2-A6D5-6254C051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65F6A-269E-4F2A-B306-2B32A05B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F0A7B-3F91-472B-9AC5-10DA5566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AC2ED-36BA-4572-860A-A76143A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45A82-79F3-40FF-AEBC-B80A89F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70E33-F4D7-4CDC-8073-2A9D5D4F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A8789-D329-4B7E-9B87-DF03B6D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BC458-7051-4059-885E-AAF21E1A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7FF17-AFFD-4D52-B168-C01BEF22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C2D20-AEAA-4214-875A-34B6271C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E509-F183-4263-A54A-CFAF9B26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75D5B9-104B-498C-B606-7F948399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19F006-F569-4E18-9AA5-A784FFF3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D4D8DB-0DE7-4E86-A6CB-8A728ADA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EB05A-8592-4D0F-B192-5BF139B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0BABBD-1656-4ABF-9E3B-7854B0A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E5590E-BEA4-408E-B332-3E756CCE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CD9570-5B37-4E29-BF55-A73DA70F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9650A2-BA86-46EF-AB83-CC42FB6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212C8-1D18-41EB-BDB3-36AFAC46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195FA4-6C8E-4938-AB9D-66A472E4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80EA-BBC1-4199-916B-605BE087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ACB024-6C59-411D-9EC4-2E5C4BCF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DB588-C05C-4785-A58F-B8D4D9AF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A3357-E228-40A1-93EB-19B3597C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E1626-6C2F-4395-8765-47E8634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70833-1D15-43AF-804A-C7A0E2D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28802-64F5-4FF0-8B45-865DD316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0C45C-6EC2-4067-ADAA-7BF3AE60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A7EF7-D171-4FFC-8630-6545C80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B52D8-2AB6-4BEE-BF55-BDE3CC4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BC3B1-3F7D-42C8-A11B-A51A8713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A790-9AF6-4054-87FB-D99D5209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945B4-1B25-41C8-A962-A7E70666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2DCD1-F0B4-4E83-A407-F7FFB01C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43397-DC42-47E9-9EBC-35AA534D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FFA24A-8ADE-4037-A6D0-A3A3AEA8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C0D469-B383-48A6-93DC-9670A73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279486-9595-458D-976A-7E1B9477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203A6A-72BF-421F-B738-92F59AAB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C3B884-9B93-499E-86A9-C260E18B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D4D015-7E79-46FF-90BA-4F90F708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39ADCE-A9AB-43ED-9C36-24372544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A400-D0AA-4D9C-AECB-6787948C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145E18-2408-43E6-832A-5C20728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42FFC2-D7C8-422E-B7DE-FF20A1C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95B7AD-2CB4-443F-B3A8-89F93D2C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648FA1-4F34-45B8-BC8E-CAB303CD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6C28E9-D893-4C7C-A885-47E7EDA1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FF1A1-3EEC-49E3-BB7E-4ADE0E88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FEE16-6127-48A6-8D1B-2A9C6782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ECF99-EA67-4D1C-AE48-9EC841C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B9E25-BD0F-408D-9B40-4D8D483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EDD46-AAAC-49B5-ACEC-A8694D95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2768-5B4C-4B44-B2CD-BC5620A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9D1D4-7474-4F66-A43C-8CD8AAFD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0C14F-D2EB-4DBC-BE77-2FDC3357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C9F2F-6430-4B70-90AA-1B7AA036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4ED6B-BD09-4B34-9F4F-90D5D05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6F741-A8E9-4458-885C-2255CA15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12BE4-A1D7-4E5B-B137-727746F6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A2597-E9B3-430F-97A3-9A9F40EA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1EB-D2E3-492A-82B3-A2F84CE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DE25-2CDC-49C8-99CA-9BC2FDD7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195-E238-4975-8C01-7E996AC6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FE3-3A87-45CA-B400-2FB5AFDE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56C7-8C3C-402A-B069-85258BD7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B0A7-1815-4E62-9714-28B5623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2B9C-BF31-43C5-BFA6-58C17ED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FCED-725A-4DBE-88CD-6C9018F7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1A7-2B5F-4255-9AF5-CDFCFFF1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DD49-CBA1-439B-B80E-9D97FA4E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0DF4-342D-4F33-A856-F93B88F2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416E-1967-45CA-9AC2-E217DEF4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F4F5-5B49-4A1F-9AAD-2387F88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629E-9403-4985-A009-34439CC8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C0A3-4555-4CC1-8E1C-3A49F593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EC5C-2018-4F2D-9B72-BD7C9CD7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1774-EDB2-4F76-A30D-0B5F8B5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A459-C14C-4F60-8DDF-0110A09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0C60-2A98-4E00-AB5F-5C52D14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E0EC-5556-4E32-85FE-892EE7AB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A104-2A4B-4644-931E-A1DB1E5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C236-A63D-450B-9443-C52177B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BBBA-529E-4117-80F2-093F0A60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5467-A5E1-4670-AF8A-C28A549B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0019-F816-4BFA-B15A-7D112CE4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031E-BDCA-4903-B567-C34EA05D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85BB-E383-4523-B12E-4A6EB7C9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D1DB-F6F1-483A-A2ED-0D8649D4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4AA9-86E7-4B89-838F-FE299A99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2106-7AA3-4F9C-B5DC-57256DA1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0009-8E85-42CC-9FB5-8A11488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56F9-8B8E-43A3-A646-DD23F674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6943-5D6D-4F3D-82F7-C41CAD71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BCEF-B9C3-4F65-B34B-E0E54A8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9C969-2AEB-4C35-AA64-BF345843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E59A-3DCA-408E-B241-3500A5D6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DD04-8DF0-4D0D-A215-B4CAC00B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36DF-72CD-4E79-AE4B-414A4482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DEDDA-AB23-4DB1-8B71-D995EA9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234B6-AF17-4890-9ACE-6E299BE3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3DEA-3038-4A18-B2BA-3F4EC5E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9A26-8CEE-4209-BA42-4B4552BD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1AA4-B68B-4503-8589-3CE2A51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5BD0-4B74-4C3C-A0CF-69E1233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0565E-1BB7-4962-BDD0-66AF16A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D3089-827B-45B9-ACE5-745900C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1371E-9EFA-4B2B-841C-733D631A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30CC-FA3E-4682-840B-3864F807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95C2-2E2A-41B7-8D27-83055C99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84A6-9D95-4B8E-9B01-B3B34B3A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D1B47-9D80-4766-9B3A-E30E6BFA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93ED6-6E93-4AE0-B2FB-903EC4B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73A97-FB49-414D-85F9-0C4AA358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D3F07-E6DE-42B8-996B-DFD5436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13CFC-2643-4FAF-BEA1-D87E405F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B6248-5387-48AD-A26D-AF1810C0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BA543-8C0E-44EE-8D1F-8759C3E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B6FE7-900A-4B01-88D2-0C58DD69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4A69F-EEDC-4FB7-8AD5-F2F101EB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9027-344C-485E-98B1-00F5767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B83E0-9A98-44D4-AA60-DB90E565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076B5-7825-4261-A89D-537E1C3C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51357-12D3-4088-9CB1-2C61500B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52CC-75A5-4D45-8C9D-313FA9F4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1312-5C10-475A-A384-4AF448D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F1AFC-EB54-4511-8374-CF23DCE4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C641D-804A-410F-AAC1-C505FF67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45B81-0A44-4EFA-9AF2-C985FDB0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FA9E1-E8BB-45A0-B57B-4989CD96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9F52C-2B51-41B4-8B0F-0FFCD80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D413-EC3D-463B-B78F-705981D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CF73-5ACE-4724-97D0-6810FDAB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B25E7-F124-4909-AC14-9FF6D27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1364-7C32-4C66-B532-DC76F68C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B9740-9260-49FD-834A-E52EAFBC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8B77-58D2-4993-A518-67CC342C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29217-9785-4893-8775-1D0F96E5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F9DDB-230A-448B-9C5B-8508D637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C585-8DEA-424B-8F58-94E7CC2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2CD2-B930-46E2-AAB9-4DE7BD1C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519E-A175-4B15-B33B-EE8EC84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1AEA-EBCF-48C5-8FA8-B3A1AC87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E2A3B-47B0-4A71-8359-FCA77BAD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660E0-FE99-4B5D-AAD0-BDEC416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2052E-D506-46B3-9407-2DB3849F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0C309-6A93-4380-BFB3-0871EB1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A0B9-682E-4ED4-B0F5-99EFC28F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3A12-2FFB-4AEE-8D92-C63F18BD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91BE4-B47E-452C-99C9-E7639B64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20010-989B-4CE5-AE9A-E30C7DD6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79EBD-E1C1-4676-9132-CD784CB3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DE110-061D-4CDC-9084-8F016EA2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380880" y="898560"/>
            <a:ext cx="647712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955800"/>
            <a:ext cx="380880" cy="5522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06E-E958-4968-96F2-51EF28027EA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Date Placeholder 27"/>
          <p:cNvSpPr/>
          <p:nvPr/>
        </p:nvSpPr>
        <p:spPr>
          <a:xfrm>
            <a:off x="0" y="3489480"/>
            <a:ext cx="1542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5CE-57D2-47B9-96AB-55660822B092}" type="datetime">
              <a:rPr b="0" lang="en-US" sz="15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0" y="898560"/>
            <a:ext cx="463680" cy="61272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0" y="1144440"/>
            <a:ext cx="68580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0" y="1201680"/>
            <a:ext cx="971640" cy="74304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1028880" y="1201680"/>
            <a:ext cx="5829120" cy="743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9"/>
          </p:nvPr>
        </p:nvSpPr>
        <p:spPr>
          <a:xfrm>
            <a:off x="-360" y="1316160"/>
            <a:ext cx="971640" cy="527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D77E-4A79-4984-9BFF-2EAC9FA1E9AF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0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-360" y="4690800"/>
            <a:ext cx="399960" cy="285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5956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815D-CFD1-44DB-969E-A81489175C22}" type="slidenum">
              <a:rPr b="1" lang="en-US" sz="1100" spc="-1" strike="noStrike">
                <a:solidFill>
                  <a:srgbClr val="59564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9"/>
          <p:cNvSpPr/>
          <p:nvPr/>
        </p:nvSpPr>
        <p:spPr>
          <a:xfrm>
            <a:off x="-6480" y="3432240"/>
            <a:ext cx="685800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-6480" y="3500280"/>
            <a:ext cx="1096920" cy="5367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1158840" y="3494160"/>
            <a:ext cx="569916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1085760" y="0"/>
            <a:ext cx="7632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68648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35"/>
          </p:nvPr>
        </p:nvSpPr>
        <p:spPr>
          <a:xfrm>
            <a:off x="0" y="3503160"/>
            <a:ext cx="1085760" cy="49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CB91-1E4D-4F8B-8D4B-B5F8AE387F64}" type="slidenum"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6"/>
          </p:nvPr>
        </p:nvSpPr>
        <p:spPr>
          <a:xfrm>
            <a:off x="1199880" y="4691160"/>
            <a:ext cx="34290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1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5627-1F02-48ED-A123-AB00A25874D7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42720" y="1201320"/>
            <a:ext cx="61722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954-2A60-441D-970D-E9313767DA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5EF-6EFD-4EEB-BA79-8D9798EF0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2720" y="1201320"/>
            <a:ext cx="61722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567A-ECE9-4C14-8279-4ED2CACE42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4D41-DC79-4178-BE30-964AA32C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327B-3176-4054-8F23-4318CFF16D2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42800" y="960480"/>
            <a:ext cx="6415200" cy="171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-360" y="955440"/>
            <a:ext cx="399960" cy="18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70B-FC4B-425A-84CB-5F119F36A9C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80880" y="898560"/>
            <a:ext cx="647712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te Placeholder 27"/>
          <p:cNvSpPr/>
          <p:nvPr/>
        </p:nvSpPr>
        <p:spPr>
          <a:xfrm>
            <a:off x="0" y="3489480"/>
            <a:ext cx="1542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1E27-1793-462B-890D-AFD662E658F8}" type="datetime">
              <a:rPr b="0" lang="en-US" sz="15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898560"/>
            <a:ext cx="463680" cy="61272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7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7CF7-D802-4059-AD32-41A1C064F24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8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6E4-EDEB-4C3F-8104-AE1EED123E64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369-E204-4DB6-8827-82649FA2548A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E1C-9283-4BD1-8917-C1EE3C4CE4B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5D98-D46E-4757-887B-2183EC6EDAB4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www.flint.lib.mi.us/timeline/autohistory_0798/durantW.html" TargetMode="External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answers.com/topic/alfred-p-sloan" TargetMode="External"/><Relationship Id="rId3" Type="http://schemas.openxmlformats.org/officeDocument/2006/relationships/hyperlink" Target="http://www.sloan.org/" TargetMode="External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19160" y="896400"/>
            <a:ext cx="3809880" cy="1373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ac7"/>
                </a:solidFill>
                <a:latin typeface="Arial"/>
              </a:rPr>
              <a:t>THE EVOLUTION OF MANAGEMENT THOUGHT, 6</a:t>
            </a:r>
            <a:r>
              <a:rPr b="0" lang="en-US" sz="3200" spc="-1" strike="noStrike" baseline="30000">
                <a:solidFill>
                  <a:srgbClr val="dfdac7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dfdac7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828800" y="4554360"/>
            <a:ext cx="5029200" cy="594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ectronic Resource b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ina Greenwood and Julia Tea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Wren_Cover.pdf"/>
          <p:cNvPicPr/>
          <p:nvPr/>
        </p:nvPicPr>
        <p:blipFill>
          <a:blip r:embed="rId1"/>
          <a:stretch/>
        </p:blipFill>
        <p:spPr>
          <a:xfrm>
            <a:off x="152280" y="185760"/>
            <a:ext cx="25909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Scientific Management Internationally</a:t>
            </a:r>
            <a:endParaRPr b="0" lang="en-US" sz="30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22840" indent="-2228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Japan, Taylor’s ideas gained widespread acceptance after their translation appeared in 1912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2840" indent="-2228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Japanese liked the idea of harmony, cooperation, and mutual interes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2840" indent="-2228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hat modern scholars call Japanese style management had its roots in the work of Taylo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8" name="Picture 4" descr="ueno_emerson"/>
          <p:cNvPicPr/>
          <p:nvPr/>
        </p:nvPicPr>
        <p:blipFill>
          <a:blip r:embed="rId1"/>
          <a:srcRect l="-14483" t="0" r="-14483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3352680" y="4630680"/>
            <a:ext cx="33148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Yoichi Ueno was a leading teacher, author, and consultant. The above picture was taken with Harrington Emerson in Japan in 1925.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Scientific Management in Industrial Practice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scientific management install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impton Press – Henry P. Kendall; 186% reduction in labor turnov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ink-Belt – James Mapes Dod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othcraft – Richard Feiss and Mary B. Gilson; combined Taylor’s ideas with personnel 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bor Manufacturing – Horace King Hathaway; 250% output increa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cientific Management was recognized for reducing costly labor turnove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Scientific Management in Industrial Practice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Hoxie Study highlighted the difference between the notions of scientific management and how well they were implemente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Hoxie Study was viewed as biased toward labor and conducted in a superficial manne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ther studies by C.B. Thompson and Daniel Nelson reinforce this uneven application of scientific manage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elson concluded that scientific management had a “strong positive correlation” with industrial efficiency. In addition, scientific management was “associated with growth not stagnation” in most industri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Industrial Practice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05" name="Picture 5" descr="1924Ford asembly line4a27992r"/>
          <p:cNvPicPr/>
          <p:nvPr/>
        </p:nvPicPr>
        <p:blipFill>
          <a:blip r:embed="rId1"/>
          <a:srcRect l="0" t="-35416" r="0" b="-35416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0000"/>
          </a:bodyPr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ata refutes the belief that scientific management led to a de-skilling of worker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killed and semi-skilled workers increased from 1900 to 1920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cientific management was associated with batch shop production and labor intensive operations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5640" indent="-2156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capital intensive industries, or automobile assembly lines, it was less usefu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228600" y="4022640"/>
            <a:ext cx="33148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Assembly line at Ford 1924, courtesy of Library of Congress, Prints and Photographs Division, Detroit Publishing Company Collection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Emerging General Manage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cientific Management dominat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 and early  2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  centurie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But, in the early 2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 century, indications of a broader concept of management developed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Other disciplines began to search for efficiency through science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administra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MA founded in 1923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Early Organizational Theor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ussell Robb (1864-1927): 1909 lectures at HB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ttempted a compromise between the old military style of management and the new conditions of industr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 felt that organizations differed as to goals sought as well as means to those goal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ecause of organizational differences, there was no one best way to organiz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 looked beyond scientific management to see the organization as a whole syst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Scientific Management at DuPont and General Motors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uPont Powder Co.  and General Motors led innovative organizational develop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uPo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sychological tests for personnel se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onaldson Brown and Return on Investment (ROI) as R = T X 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0720" indent="-1922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parated line and staff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4" name="Picture 4" descr="dupont"/>
          <p:cNvPicPr/>
          <p:nvPr/>
        </p:nvPicPr>
        <p:blipFill>
          <a:blip r:embed="rId1"/>
          <a:srcRect l="-13347" t="0" r="-13347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3429000" y="4633920"/>
            <a:ext cx="3200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64b"/>
                </a:solidFill>
                <a:latin typeface="Tw Cen MT"/>
              </a:rPr>
              <a:t>Pierre DuPo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William C. Dura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rcRect l="-12737" t="0" r="-12737" b="0"/>
          <a:stretch/>
        </p:blipFill>
        <p:spPr>
          <a:xfrm>
            <a:off x="0" y="1201680"/>
            <a:ext cx="2286000" cy="2692440"/>
          </a:xfrm>
          <a:prstGeom prst="rect">
            <a:avLst/>
          </a:prstGeom>
          <a:ln w="0">
            <a:noFill/>
          </a:ln>
        </p:spPr>
      </p:pic>
      <p:pic>
        <p:nvPicPr>
          <p:cNvPr id="618" name="Content Placeholder 7" descr="durant.gif"/>
          <p:cNvPicPr/>
          <p:nvPr/>
        </p:nvPicPr>
        <p:blipFill>
          <a:blip r:embed="rId2"/>
          <a:srcRect l="0" t="-33122" r="0" b="-33122"/>
          <a:stretch/>
        </p:blipFill>
        <p:spPr>
          <a:xfrm>
            <a:off x="2133720" y="184320"/>
            <a:ext cx="4724280" cy="50734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5"/>
          <p:cNvSpPr/>
          <p:nvPr/>
        </p:nvSpPr>
        <p:spPr>
          <a:xfrm>
            <a:off x="453240" y="4021200"/>
            <a:ext cx="126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ef8e1c"/>
                </a:solidFill>
                <a:uFillTx/>
                <a:latin typeface="Times New Roman"/>
                <a:hlinkClick r:id="rId3"/>
              </a:rPr>
              <a:t>William C. Durant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914400" y="4902120"/>
            <a:ext cx="594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From </a:t>
            </a:r>
            <a:r>
              <a:rPr b="0" i="1" lang="en-US" sz="1000" spc="-1" strike="noStrike">
                <a:solidFill>
                  <a:srgbClr val="59564b"/>
                </a:solidFill>
                <a:latin typeface="Tw Cen MT"/>
              </a:rPr>
              <a:t>Pierre S. DuPont and the Making of the Modern Corporation </a:t>
            </a: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by Alfred D. Chandler. Harper &amp; Row 1971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Alfred P. Sloan, Jr. (1875-966)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22" name="Picture 5" descr="Sloan Rules"/>
          <p:cNvPicPr/>
          <p:nvPr/>
        </p:nvPicPr>
        <p:blipFill>
          <a:blip r:embed="rId1"/>
          <a:srcRect l="-17002" t="0" r="-17002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f8e1c"/>
                </a:solidFill>
                <a:uFillTx/>
                <a:latin typeface="Tw Cen MT"/>
                <a:hlinkClick r:id="rId2"/>
              </a:rPr>
              <a:t>Sloan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led General Motors from 1923 to 1956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reated centralized policy, control, and review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centralized administration and operation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nabled decentralized parts to work for a common go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stablished the </a:t>
            </a:r>
            <a:r>
              <a:rPr b="0" lang="en-US" sz="1800" spc="-1" strike="noStrike" u="sng">
                <a:solidFill>
                  <a:srgbClr val="ef8e1c"/>
                </a:solidFill>
                <a:uFillTx/>
                <a:latin typeface="Tw Cen MT"/>
                <a:hlinkClick r:id="rId3"/>
              </a:rPr>
              <a:t>Sloan Found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4172040" y="4910040"/>
            <a:ext cx="26859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59564b"/>
                </a:solidFill>
                <a:latin typeface="Tw Cen MT"/>
              </a:rPr>
              <a:t>Source: http://www.amazon.com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DuPont and General Motor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oth used multidivisional structures organized around product division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se divisions could were decentralized for operations and performance could be measured by ROI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rigins of the “M-Form” Organization – allowed growth without the encumbrance of a functional organization structur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564b"/>
                </a:solidFill>
                <a:latin typeface="Tw Cen MT"/>
              </a:rPr>
              <a:t>Scientific Management in Theory &amp; Practic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CHAPTER ELEVEN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Business Policy and Philosoph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idea of collegiate schools of business spread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By 1925, 38 schools belonged to the ACSB (today’s AACSB)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Arch W. Shaw taught a policy course at Harvard in 1912 based on cases.  It integrated business subject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Alexander H. Church (1866-1936) broadened Taylor’s concepts to include policy and implementatio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Oliver Sheldon (1894-1951) sought to combine the efficiency with the ethics of service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ummar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cientific Management was a force i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formal study of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practice of management in the US, Great Britain, Europe, Japan, and the USS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roadening the scope of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tudy of organiz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development of business policy and the philosophy of managem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Scientific Management in Theory &amp; Practice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mpact of scientific management on management edu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mpact of scientific management on international management and other disciplin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pread of management ideas moved beyond the factory leading to the emergency of general managem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Education for Industrial Management</a:t>
            </a:r>
            <a:endParaRPr b="0" lang="en-US" sz="30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89000"/>
          </a:bodyPr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Early in the 2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 Century, the teaching of management in colleges focused on production management based on Taylor’s writings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Daniel Nelson’s observed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hat scientific management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gave credibility to the stud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of business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Business schools at th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ime were considered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oo vocational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1" name="Content Placeholder 7" descr="univ of oklahoma.gif"/>
          <p:cNvPicPr/>
          <p:nvPr/>
        </p:nvPicPr>
        <p:blipFill>
          <a:blip r:embed="rId1"/>
          <a:srcRect l="0" t="-28498" r="0" b="-28498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8"/>
          <p:cNvSpPr/>
          <p:nvPr/>
        </p:nvSpPr>
        <p:spPr>
          <a:xfrm>
            <a:off x="3230640" y="4589640"/>
            <a:ext cx="378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Adams/Price Hall - Business School, University of Oklahoma 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Early Management Educator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20320" indent="-2203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. Clarence Bertrand Thompson(1882-1969)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ught management at Harvard from 1908-1917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mpiled the most extensive management bibliography of the perio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41000" indent="-18828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rthered the scientific management movement in academia, industry, and abroad as a consulta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5" name="Picture 4" descr="c_bertrand_thompson"/>
          <p:cNvPicPr/>
          <p:nvPr/>
        </p:nvPicPr>
        <p:blipFill>
          <a:blip r:embed="rId1"/>
          <a:srcRect l="-14355" t="0" r="-14355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Early Management Educator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arlow S. Person (1875-1955) created management course at Dartmouth, expanded the Taylor Society, and recognized the importance of social scientis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on Pratt Alford (1877-1942) pioneered the concept of management handbooks, influenced journals through his work and books, and emulated Gantt’s call for service to the communit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The International Scientific Management Movement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“management revolution” spread abroad as a product of the United State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n France, industrialists tended to implement scientific management to increase productivity without following Taylor’s advice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lnSpc>
                <a:spcPct val="8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Taylorisme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became a dirty word for French worker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harles de Freminville with Le Chatelier formed the Conference de l’Organisation Francaise in 1920 to advance management in France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Hans Renold instituted scientific management in his British firm but the movement was largely rejected in Great Brit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The International Scientific Management Movement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591" name="Picture 5" descr="henri_fayol"/>
          <p:cNvPicPr/>
          <p:nvPr/>
        </p:nvPicPr>
        <p:blipFill>
          <a:blip r:embed="rId1"/>
          <a:srcRect l="-14425" t="0" r="-14425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nri Fayol formed the Center for Administrative Studies in France in 1917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declared his work complemented Taylor’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rst CIOS meeting held in Prague in 1924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Twentieth Century Fund and the IMI worked to promote management in Europ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Poland, Adamiecki’s “harmonogram” was similar to PER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The International Scientific Management Movement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1000"/>
          </a:bodyPr>
          <a:p>
            <a:pPr marL="218160" indent="-2181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 the USSR (the Soviet Union at the time)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36320" indent="-1861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nin advocated Taylorism after 1917, but little came of this in practic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36320" indent="-1861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nin thought scientific management would assist the socialist revolution; others distrusted capitalistic ide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36320" indent="-1861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igher productivity through competition was accepted, not better job analysis and work method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36320" indent="-1861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alter Polakov was successful i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36320" indent="-18612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etting the USSR to use Gantt Chart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36320" indent="-18612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r their five year plan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5" name="Picture 7" descr="http://blogs.zdnet.com/open-source/images/lenin.jpg"/>
          <p:cNvPicPr/>
          <p:nvPr/>
        </p:nvPicPr>
        <p:blipFill>
          <a:blip r:embed="rId1"/>
          <a:stretch/>
        </p:blipFill>
        <p:spPr>
          <a:xfrm>
            <a:off x="5048280" y="3335400"/>
            <a:ext cx="1504800" cy="169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2:48:26Z</dcterms:created>
  <dc:creator>Julia Teahen</dc:creator>
  <dc:description/>
  <dc:language>en-US</dc:language>
  <cp:lastModifiedBy>Administratr</cp:lastModifiedBy>
  <cp:lastPrinted>2009-04-22T19:24:48Z</cp:lastPrinted>
  <dcterms:modified xsi:type="dcterms:W3CDTF">2009-08-05T20:49:10Z</dcterms:modified>
  <cp:revision>349</cp:revision>
  <dc:subject/>
  <dc:title>Seminar One </dc:title>
</cp:coreProperties>
</file>