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6858000" cy="51482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fdac7"/>
                </a:solidFill>
                <a:latin typeface="Tw Cen MT"/>
              </a:rPr>
              <a:t>Click to move the slide</a:t>
            </a: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F0CB-0E9B-4202-953D-A97AF325B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04DD-1605-4F99-BA03-EED88C1127B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F51B-A339-46DE-80BF-2790F89A762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07B2-E329-4356-9911-D3CAD14B349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17E9-0D90-4AED-9F2E-2F9B221E135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B1AE-2E7F-4369-8D2D-F956A47B507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C9A4-0AAB-4F7B-BC24-14F1520E215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5004-5E2A-44E1-AE8D-1E68D84BF84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7CBC-307A-496E-9A32-9CCAEA29101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E6F4-4D66-4B77-BE77-1E5D7A66A77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9ADA-17F2-42E1-B9A2-089D9608D7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6199-C9D8-4D8E-B07F-F0348C99E1E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6636-D884-47EC-BC64-C11E7C3C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BA43-951A-4094-9071-72CE288B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2401-5CE3-4EAA-ABEB-5C4BEF5AD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B6A0-BAEE-4256-9CD8-86561211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A04E-037B-4356-8EFC-6BE3CBB67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759B-D5FD-4B88-A425-3FCE6172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4159-CB15-46A4-955C-E9F9E10B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CB78-246E-49A3-A40A-D64A6C1A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4F9F-CC9E-412B-AE85-FF1D2475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4FE4-C7ED-4213-B289-86D8A03C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F044-346B-49A1-B7AC-141E9D8D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DCC0-16BE-4DE4-82DB-36D3D119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5321-B24A-4131-B9C0-B41415E9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A9CF-2738-4446-93FC-7D4C8339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9CEC-34A4-4616-8899-E8E556A2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AEBE-36CB-4DBD-9E40-37C0EDE80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129F-8974-4261-B2D8-6F8B94E04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13EEFD-2C26-445E-8DEE-AE55E65C4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1783B4-6176-4D2D-85E6-C099A7E8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9A39E4-BCBB-4291-A8E3-AEDA23F1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8D382C-3D93-4C37-8450-520D2ECA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B0146F-C798-433D-9ED0-8B395147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9C2A-EC69-4DED-A79C-C74BA251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BE685D-0F37-48FB-BB73-4BC2118D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F82474-9166-459F-B9E7-7FCBAC65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D1B94F-50D0-48D4-9B6B-EFF0F136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9FE020-B143-4649-B26D-CC8C32DF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ADC9EA-294B-4F13-8283-3CEDBA38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50A6D5-3C3A-4DA3-BD7E-2E076C10F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8BB0B8-DBA9-4CAA-ACF5-E52C26216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FBFDE2-EE42-47D5-B0D4-503D55D3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46D5FA-E7DE-4B8E-B599-267535BE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F53AE1-9FBF-4193-B301-A8B8469F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E9D7-64BC-4D6F-B932-DCF3B2E2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B83550-D8D7-4FAC-82D3-A71C4F55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A1E617-940C-4714-B1DF-B9A86615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58909D-37EA-4C48-8F6F-60007136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E16EA1-0EB2-4FDB-929D-7512F105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7E301F-744B-4E2A-9F93-A86388BB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CFA198-4D98-46E5-B5FA-84DFDCF2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CA1696-326C-4BE2-85D7-2F8E483A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F6B64C-59ED-4F19-B020-5B1FADC70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892207-00ED-4924-BA02-A0529FD63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8B857-9EFF-41D3-83FC-3C618273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D582-9D3D-4ECC-905A-3347652E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1D2A8-565A-484D-BB26-1992A9DA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314D0-B70B-4FCE-B404-ACF4AE2B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81858-2221-4066-80C2-86DBB7A9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D24B3-3362-4107-BFE6-D02DD938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7A72B-E356-46BD-92F3-2BC1F71C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5F757-E936-4104-A3C1-74EE05BE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260F8-A089-4B04-B213-D3533DBE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69231-235B-4BED-8D32-84EBB889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E774D-3F57-46BA-8DD7-24C3D63B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62AD4-BD43-4643-81D9-616F9A6E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71360"/>
            <a:ext cx="61149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B38F-B8C7-4CFF-9561-B63EAED2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252612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93600" y="12013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828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252612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4593600" y="2976120"/>
            <a:ext cx="19688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BB89D-75E3-4CD0-817A-3F7A1678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7AD7-07D0-4B1B-88A5-70E1A2AD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92080" y="29761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6A84-C977-4FF3-956E-5AC26FF7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82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92080" y="1201320"/>
            <a:ext cx="298404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8280" y="2976120"/>
            <a:ext cx="6115320" cy="1620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600B-3B7C-43FF-9F6F-37F1D71E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Click to edit the title text format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7960" indent="-2379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477720" indent="-2030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684360" indent="-16992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027080" indent="-1699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1370160" indent="-16992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1370160" indent="-16992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1370160" indent="-16992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0" y="4691160"/>
            <a:ext cx="200016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4691160"/>
            <a:ext cx="406548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927000"/>
            <a:ext cx="685800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960480"/>
            <a:ext cx="399960" cy="17136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960480"/>
            <a:ext cx="6415200" cy="171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-360" y="955440"/>
            <a:ext cx="399960" cy="182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D67C-4F92-44AC-954C-91DF73A14A7C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6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4483080"/>
            <a:ext cx="6858000" cy="66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6480" y="4543560"/>
            <a:ext cx="1685880" cy="53640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1770120" y="4537080"/>
            <a:ext cx="5087880" cy="5349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fdac7"/>
                </a:solidFill>
                <a:latin typeface="Tw Cen MT"/>
              </a:rPr>
              <a:t>Click to edit the title text format</a:t>
            </a:r>
            <a:endParaRPr b="0" lang="en-US" sz="33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7960" indent="-2379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lvl="1" marL="477720" indent="-2030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lvl="2" marL="684360" indent="-16992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lvl="3" marL="1027080" indent="-1699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lvl="4" marL="1370160" indent="-16992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lvl="5" marL="1370160" indent="-169920">
              <a:spcBef>
                <a:spcPts val="524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lvl="6" marL="1370160" indent="-169920">
              <a:spcBef>
                <a:spcPts val="524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7240" y="4555800"/>
            <a:ext cx="1542960" cy="5144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1D39-5073-4B17-B3C2-E3570FA8409B}" type="datetime"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563480" y="177480"/>
            <a:ext cx="4400280" cy="274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000840" y="171360"/>
            <a:ext cx="628560" cy="2858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dfdac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095E-067E-45F5-9BE2-0E028070B9B1}" type="slidenum">
              <a:rPr b="1" lang="en-US" sz="1100" spc="-1" strike="noStrike">
                <a:solidFill>
                  <a:srgbClr val="dfdac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144440"/>
            <a:ext cx="6858000" cy="85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01680"/>
            <a:ext cx="971640" cy="74304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028880" y="1201680"/>
            <a:ext cx="5829120" cy="7430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Click to edit the title text format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7960" indent="-2379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477720" indent="-2030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684360" indent="-16992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027080" indent="-1699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1370160" indent="-16992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1370160" indent="-16992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1370160" indent="-16992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0" y="4691160"/>
            <a:ext cx="200016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64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1981-CF8F-4ACA-9F17-C7B943594F22}" type="datetime">
              <a:rPr b="0" lang="en-US" sz="1100" spc="-1" strike="noStrike">
                <a:solidFill>
                  <a:srgbClr val="59564b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-360" y="1316160"/>
            <a:ext cx="971640" cy="527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5DA6-24C4-4DE4-A946-81CD8D6CEA5C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456840" y="4691160"/>
            <a:ext cx="406548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-6480" y="3432240"/>
            <a:ext cx="6858000" cy="66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-6480" y="3500280"/>
            <a:ext cx="1096920" cy="53676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1158840" y="3494160"/>
            <a:ext cx="5699160" cy="5349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1085760" y="0"/>
            <a:ext cx="76320" cy="515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Click to edit the title text format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7960" indent="-2379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477720" indent="-2030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684360" indent="-16992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027080" indent="-1699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1370160" indent="-16992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1370160" indent="-16992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1370160" indent="-16992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686480" y="4691160"/>
            <a:ext cx="200016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sldNum" idx="11"/>
          </p:nvPr>
        </p:nvSpPr>
        <p:spPr>
          <a:xfrm>
            <a:off x="0" y="3503160"/>
            <a:ext cx="1085760" cy="49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E1CA-4058-4D86-9842-C3A2D2A40FE2}" type="slidenum"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12"/>
          </p:nvPr>
        </p:nvSpPr>
        <p:spPr>
          <a:xfrm>
            <a:off x="1199880" y="4691160"/>
            <a:ext cx="342900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4572000" y="0"/>
            <a:ext cx="239760" cy="51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4606920" y="457200"/>
            <a:ext cx="171360" cy="4691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4606920" y="0"/>
            <a:ext cx="171360" cy="399960"/>
          </a:xfrm>
          <a:prstGeom prst="rect">
            <a:avLst/>
          </a:prstGeom>
          <a:solidFill>
            <a:srgbClr val="efab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611496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Click to edit the title text format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8280" y="1201320"/>
            <a:ext cx="6115320" cy="33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7960" indent="-2379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477720" indent="-203040">
              <a:spcBef>
                <a:spcPts val="524"/>
              </a:spcBef>
              <a:buClr>
                <a:srgbClr val="99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684360" indent="-169920">
              <a:spcBef>
                <a:spcPts val="524"/>
              </a:spcBef>
              <a:buClr>
                <a:srgbClr val="efab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027080" indent="-169920">
              <a:spcBef>
                <a:spcPts val="524"/>
              </a:spcBef>
              <a:buClr>
                <a:srgbClr val="78ac3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1370160" indent="-169920">
              <a:spcBef>
                <a:spcPts val="524"/>
              </a:spcBef>
              <a:buClr>
                <a:srgbClr val="35ac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1370160" indent="-16992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1370160" indent="-169920"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914720" y="4691160"/>
            <a:ext cx="165708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43080" y="4691160"/>
            <a:ext cx="4179600" cy="272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 rot="5400000">
            <a:off x="4492440" y="107280"/>
            <a:ext cx="399960" cy="184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BFEB-C3AE-429E-8CCB-97A264F0F6E0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19160" y="896400"/>
            <a:ext cx="3809880" cy="13734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fdac7"/>
                </a:solidFill>
                <a:latin typeface="Tw Cen MT"/>
              </a:rPr>
              <a:t>THE EVOLUTION OF MANAGEMENT THOUGHT, 6</a:t>
            </a:r>
            <a:r>
              <a:rPr b="0" lang="en-US" sz="3000" spc="-1" strike="noStrike" baseline="30000">
                <a:solidFill>
                  <a:srgbClr val="dfdac7"/>
                </a:solidFill>
                <a:latin typeface="Tw Cen MT"/>
              </a:rPr>
              <a:t>TH</a:t>
            </a:r>
            <a:r>
              <a:rPr b="0" lang="en-US" sz="3000" spc="-1" strike="noStrike">
                <a:solidFill>
                  <a:srgbClr val="dfdac7"/>
                </a:solidFill>
                <a:latin typeface="Tw Cen MT"/>
              </a:rPr>
              <a:t> EDITION</a:t>
            </a:r>
            <a:endParaRPr b="0" lang="en-US" sz="3000" spc="-1" strike="noStrike">
              <a:solidFill>
                <a:srgbClr val="dfdac7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828800" y="4554360"/>
            <a:ext cx="5029200" cy="594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w Cen MT"/>
              </a:rPr>
              <a:t>Electronic Resource by: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w Cen MT"/>
              </a:rPr>
              <a:t>Regina Greenwood and Julia Teahen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230" name="Picture 5" descr="Wren_Cover_30.jpg"/>
          <p:cNvPicPr/>
          <p:nvPr/>
        </p:nvPicPr>
        <p:blipFill>
          <a:blip r:embed="rId1"/>
          <a:stretch/>
        </p:blipFill>
        <p:spPr>
          <a:xfrm>
            <a:off x="152280" y="210960"/>
            <a:ext cx="259092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200240" y="4117680"/>
            <a:ext cx="5486400" cy="741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w Cen MT"/>
              </a:rPr>
              <a:t>Persons may be designated to manage; sometimes groups can come to agreements and manage their efforts.  In either case, however, the activity of management must be present.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1200240" y="3489480"/>
            <a:ext cx="5486400" cy="514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w Cen MT"/>
              </a:rPr>
              <a:t>Management is essential to organized endeavors.</a:t>
            </a:r>
            <a:endParaRPr b="0" lang="en-US" sz="2100" spc="-1" strike="noStrike">
              <a:solidFill>
                <a:srgbClr val="59564b"/>
              </a:solidFill>
              <a:latin typeface="Tw Cen MT"/>
            </a:endParaRPr>
          </a:p>
        </p:txBody>
      </p:sp>
      <p:pic>
        <p:nvPicPr>
          <p:cNvPr id="253" name="Picture Placeholder 10" descr="16821654.jpg"/>
          <p:cNvPicPr/>
          <p:nvPr/>
        </p:nvPicPr>
        <p:blipFill>
          <a:blip r:embed="rId1"/>
          <a:stretch/>
        </p:blipFill>
        <p:spPr>
          <a:xfrm>
            <a:off x="1163520" y="-6480"/>
            <a:ext cx="57009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028880" y="2058480"/>
            <a:ext cx="5341680" cy="1256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9564b"/>
                </a:solidFill>
                <a:latin typeface="Tw Cen MT"/>
              </a:rPr>
              <a:t>Management is the art of arranging physical and human resources toward purposeful ends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1028520" y="1201680"/>
            <a:ext cx="5715000" cy="743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w Cen MT"/>
              </a:rPr>
              <a:t>Definition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200240" y="4117680"/>
            <a:ext cx="5486400" cy="515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w Cen MT"/>
              </a:rPr>
              <a:t>To trace the significant periods in the evolution of management thought from its earliest days to the present. 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1200240" y="3489480"/>
            <a:ext cx="5486400" cy="514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w Cen MT"/>
              </a:rPr>
              <a:t>Purpose of this Study</a:t>
            </a:r>
            <a:endParaRPr b="0" lang="en-US" sz="21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5885280" y="4932360"/>
            <a:ext cx="96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9564b"/>
                </a:solidFill>
                <a:latin typeface="Arial"/>
                <a:ea typeface="Arial"/>
              </a:rPr>
              <a:t>www.bigfoto.com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" name="Picture Placeholder 6" descr="railway part one.jpg"/>
          <p:cNvPicPr/>
          <p:nvPr/>
        </p:nvPicPr>
        <p:blipFill>
          <a:blip r:embed="rId1"/>
          <a:srcRect l="-5265" t="0" r="-5265" b="0"/>
          <a:stretch/>
        </p:blipFill>
        <p:spPr>
          <a:xfrm>
            <a:off x="1170000" y="0"/>
            <a:ext cx="568800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028880" y="2058480"/>
            <a:ext cx="5341680" cy="1256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9564b"/>
                </a:solidFill>
                <a:latin typeface="Tw Cen MT"/>
              </a:rPr>
              <a:t>Early Management Thought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1028520" y="1201680"/>
            <a:ext cx="5715000" cy="743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w Cen MT"/>
              </a:rPr>
              <a:t>Part One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028880" y="2058480"/>
            <a:ext cx="5341680" cy="1256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9564b"/>
                </a:solidFill>
                <a:latin typeface="Tw Cen MT"/>
              </a:rPr>
              <a:t>A Prologue to the Past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1028520" y="1201680"/>
            <a:ext cx="5715000" cy="743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w Cen MT"/>
              </a:rPr>
              <a:t>Chapter One</a:t>
            </a:r>
            <a:r>
              <a:rPr b="0" lang="en-US" sz="33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219320" y="4020840"/>
            <a:ext cx="5486400" cy="515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w Cen MT"/>
              </a:rPr>
              <a:t>What can any of us learn from the past?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200240" y="3489480"/>
            <a:ext cx="5486400" cy="514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w Cen MT"/>
              </a:rPr>
              <a:t>What can be learned from the history of management?</a:t>
            </a:r>
            <a:endParaRPr b="0" lang="en-US" sz="1900" spc="-1" strike="noStrike">
              <a:solidFill>
                <a:srgbClr val="59564b"/>
              </a:solidFill>
              <a:latin typeface="Tw Cen MT"/>
            </a:endParaRPr>
          </a:p>
        </p:txBody>
      </p:sp>
      <p:pic>
        <p:nvPicPr>
          <p:cNvPr id="241" name="Picture Placeholder 9" descr="photo_2388_20081129.jpg"/>
          <p:cNvPicPr/>
          <p:nvPr/>
        </p:nvPicPr>
        <p:blipFill>
          <a:blip r:embed="rId1"/>
          <a:stretch/>
        </p:blipFill>
        <p:spPr>
          <a:xfrm>
            <a:off x="1163520" y="-6480"/>
            <a:ext cx="5700960" cy="34448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10"/>
          <p:cNvSpPr/>
          <p:nvPr/>
        </p:nvSpPr>
        <p:spPr>
          <a:xfrm>
            <a:off x="3429000" y="4917960"/>
            <a:ext cx="342900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9564b"/>
                </a:solidFill>
                <a:latin typeface="Arial"/>
                <a:ea typeface="Arial"/>
              </a:rPr>
              <a:t>FreeDigitalPhotos.net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64b"/>
                </a:solidFill>
                <a:latin typeface="Tw Cen MT"/>
              </a:rPr>
              <a:t>What can we learn from reviewing the history of management?</a:t>
            </a:r>
            <a:endParaRPr b="0" lang="en-US" sz="22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6000"/>
          </a:bodyPr>
          <a:p>
            <a:pPr marL="228240" indent="-22824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It helps us to integrate our knowledge of leadership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8240" indent="-22824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It provides a perspective on the past to apply to the present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8240" indent="-22824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History helps us develop alternatives because our knowledge has been broadened and deepened by an understanding of the past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8240" indent="-228240">
              <a:lnSpc>
                <a:spcPct val="90000"/>
              </a:lnSpc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What happened?” is a starting point for developing new ideas without “reinventing the wheel.”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64b"/>
                </a:solidFill>
                <a:latin typeface="Tw Cen MT"/>
              </a:rPr>
              <a:t>A Cultural Framework</a:t>
            </a:r>
            <a:endParaRPr b="0" lang="en-US" sz="33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7960" indent="-2379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economic facet – relationship of people to resource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7960" indent="-2379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social facet – relationship of people to other peopl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7960" indent="-2379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political facet – relation of the individual to the stat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7960" indent="-2379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technological facet – related to the art and applied science of making tools and equipmen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8280" y="171360"/>
            <a:ext cx="6115320" cy="744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64b"/>
                </a:solidFill>
                <a:latin typeface="Tw Cen MT"/>
              </a:rPr>
              <a:t>People, Management, and Organizations</a:t>
            </a:r>
            <a:endParaRPr b="0" lang="en-US" sz="2400" spc="-1" strike="noStrike">
              <a:solidFill>
                <a:srgbClr val="59564b"/>
              </a:solidFill>
              <a:latin typeface="Tw Cen MT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8280" y="1201320"/>
            <a:ext cx="6115320" cy="3375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37960" indent="-2379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human being is then fundamental unit of analysis for the study of mankind, management, and organizations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7960" indent="-2379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Human basic needs and social needs led to the formation of family and groups, a primitive hierarchy of organization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37960" indent="-237960">
              <a:spcBef>
                <a:spcPts val="524"/>
              </a:spcBef>
              <a:buClr>
                <a:srgbClr val="efab1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eople found advantages in participating and cooperating with others to achieve goals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1771560" y="4541400"/>
            <a:ext cx="5029200" cy="5144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w Cen MT"/>
              </a:rPr>
              <a:t>Figure 1-1: People, management, &amp; organizations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250" name="Picture 8" descr="figure1-1.tiff"/>
          <p:cNvPicPr/>
          <p:nvPr/>
        </p:nvPicPr>
        <p:blipFill>
          <a:blip r:embed="rId1"/>
          <a:stretch/>
        </p:blipFill>
        <p:spPr>
          <a:xfrm>
            <a:off x="762120" y="135000"/>
            <a:ext cx="533376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2:48:36Z</dcterms:created>
  <dc:creator>Regina Greenwood and Julia Teahen</dc:creator>
  <dc:description/>
  <cp:keywords/>
  <dc:language>en-US</dc:language>
  <cp:lastModifiedBy>Administratr</cp:lastModifiedBy>
  <cp:lastPrinted>2009-04-22T19:24:48Z</cp:lastPrinted>
  <dcterms:modified xsi:type="dcterms:W3CDTF">2009-08-05T19:32:25Z</dcterms:modified>
  <cp:revision>285</cp:revision>
  <dc:subject/>
  <dc:title>The Evolution of Management Thought, 6th ed</dc:title>
</cp:coreProperties>
</file>