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5.jpeg" ContentType="image/jpeg"/>
  <Override PartName="/ppt/media/image24.jpeg" ContentType="image/jpeg"/>
  <Override PartName="/ppt/media/image20.jpeg" ContentType="image/jpeg"/>
  <Override PartName="/ppt/media/image19.png" ContentType="image/png"/>
  <Override PartName="/ppt/media/image17.png" ContentType="image/png"/>
  <Override PartName="/ppt/media/image32.jpeg" ContentType="image/jpeg"/>
  <Override PartName="/ppt/media/image16.jpeg" ContentType="image/jpeg"/>
  <Override PartName="/ppt/media/image15.jpeg" ContentType="image/jpeg"/>
  <Override PartName="/ppt/media/image22.jpeg" ContentType="image/jpeg"/>
  <Override PartName="/ppt/media/image14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40.png" ContentType="image/png"/>
  <Override PartName="/ppt/media/image37.jpeg" ContentType="image/jpeg"/>
  <Override PartName="/ppt/media/image30.png" ContentType="image/png"/>
  <Override PartName="/ppt/media/image10.jpeg" ContentType="image/jpeg"/>
  <Override PartName="/ppt/media/image31.png" ContentType="image/png"/>
  <Override PartName="/ppt/media/image8.png" ContentType="image/png"/>
  <Override PartName="/ppt/media/image39.jpeg" ContentType="image/jpeg"/>
  <Override PartName="/ppt/media/image33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7.jpeg" ContentType="image/jpeg"/>
  <Override PartName="/ppt/media/image28.png" ContentType="image/png"/>
  <Override PartName="/ppt/media/image38.jpeg" ContentType="image/jpeg"/>
  <Override PartName="/ppt/media/image12.jpeg" ContentType="image/jpeg"/>
  <Override PartName="/ppt/media/image34.png" ContentType="image/png"/>
  <Override PartName="/ppt/media/image4.png" ContentType="image/png"/>
  <Override PartName="/ppt/media/image3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  <p:sldId id="281" r:id="rId42"/>
    <p:sldId id="282" r:id="rId43"/>
    <p:sldId id="283" r:id="rId44"/>
    <p:sldId id="284" r:id="rId45"/>
    <p:sldId id="285" r:id="rId46"/>
    <p:sldId id="286" r:id="rId47"/>
    <p:sldId id="287" r:id="rId48"/>
    <p:sldId id="288" r:id="rId49"/>
    <p:sldId id="289" r:id="rId50"/>
    <p:sldId id="290" r:id="rId51"/>
    <p:sldId id="291" r:id="rId52"/>
    <p:sldId id="292" r:id="rId53"/>
    <p:sldId id="293" r:id="rId54"/>
    <p:sldId id="294" r:id="rId55"/>
    <p:sldId id="295" r:id="rId56"/>
    <p:sldId id="296" r:id="rId57"/>
    <p:sldId id="297" r:id="rId58"/>
    <p:sldId id="298" r:id="rId59"/>
    <p:sldId id="299" r:id="rId60"/>
    <p:sldId id="300" r:id="rId61"/>
    <p:sldId id="301" r:id="rId62"/>
    <p:sldId id="302" r:id="rId63"/>
    <p:sldId id="303" r:id="rId64"/>
    <p:sldId id="304" r:id="rId65"/>
    <p:sldId id="305" r:id="rId66"/>
    <p:sldId id="306" r:id="rId67"/>
    <p:sldId id="307" r:id="rId68"/>
    <p:sldId id="308" r:id="rId69"/>
  </p:sldIdLst>
  <p:sldSz cx="6858000" cy="51482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slide" Target="slides/slide26.xml"/><Relationship Id="rId43" Type="http://schemas.openxmlformats.org/officeDocument/2006/relationships/slide" Target="slides/slide27.xml"/><Relationship Id="rId44" Type="http://schemas.openxmlformats.org/officeDocument/2006/relationships/slide" Target="slides/slide28.xml"/><Relationship Id="rId45" Type="http://schemas.openxmlformats.org/officeDocument/2006/relationships/slide" Target="slides/slide29.xml"/><Relationship Id="rId46" Type="http://schemas.openxmlformats.org/officeDocument/2006/relationships/slide" Target="slides/slide30.xml"/><Relationship Id="rId47" Type="http://schemas.openxmlformats.org/officeDocument/2006/relationships/slide" Target="slides/slide31.xml"/><Relationship Id="rId48" Type="http://schemas.openxmlformats.org/officeDocument/2006/relationships/slide" Target="slides/slide32.xml"/><Relationship Id="rId49" Type="http://schemas.openxmlformats.org/officeDocument/2006/relationships/slide" Target="slides/slide33.xml"/><Relationship Id="rId50" Type="http://schemas.openxmlformats.org/officeDocument/2006/relationships/slide" Target="slides/slide34.xml"/><Relationship Id="rId51" Type="http://schemas.openxmlformats.org/officeDocument/2006/relationships/slide" Target="slides/slide35.xml"/><Relationship Id="rId52" Type="http://schemas.openxmlformats.org/officeDocument/2006/relationships/slide" Target="slides/slide36.xml"/><Relationship Id="rId53" Type="http://schemas.openxmlformats.org/officeDocument/2006/relationships/slide" Target="slides/slide37.xml"/><Relationship Id="rId54" Type="http://schemas.openxmlformats.org/officeDocument/2006/relationships/slide" Target="slides/slide38.xml"/><Relationship Id="rId55" Type="http://schemas.openxmlformats.org/officeDocument/2006/relationships/slide" Target="slides/slide39.xml"/><Relationship Id="rId56" Type="http://schemas.openxmlformats.org/officeDocument/2006/relationships/slide" Target="slides/slide40.xml"/><Relationship Id="rId57" Type="http://schemas.openxmlformats.org/officeDocument/2006/relationships/slide" Target="slides/slide41.xml"/><Relationship Id="rId58" Type="http://schemas.openxmlformats.org/officeDocument/2006/relationships/slide" Target="slides/slide42.xml"/><Relationship Id="rId59" Type="http://schemas.openxmlformats.org/officeDocument/2006/relationships/slide" Target="slides/slide43.xml"/><Relationship Id="rId60" Type="http://schemas.openxmlformats.org/officeDocument/2006/relationships/slide" Target="slides/slide44.xml"/><Relationship Id="rId61" Type="http://schemas.openxmlformats.org/officeDocument/2006/relationships/slide" Target="slides/slide45.xml"/><Relationship Id="rId62" Type="http://schemas.openxmlformats.org/officeDocument/2006/relationships/slide" Target="slides/slide46.xml"/><Relationship Id="rId63" Type="http://schemas.openxmlformats.org/officeDocument/2006/relationships/slide" Target="slides/slide47.xml"/><Relationship Id="rId64" Type="http://schemas.openxmlformats.org/officeDocument/2006/relationships/slide" Target="slides/slide48.xml"/><Relationship Id="rId65" Type="http://schemas.openxmlformats.org/officeDocument/2006/relationships/slide" Target="slides/slide49.xml"/><Relationship Id="rId66" Type="http://schemas.openxmlformats.org/officeDocument/2006/relationships/slide" Target="slides/slide50.xml"/><Relationship Id="rId67" Type="http://schemas.openxmlformats.org/officeDocument/2006/relationships/slide" Target="slides/slide51.xml"/><Relationship Id="rId68" Type="http://schemas.openxmlformats.org/officeDocument/2006/relationships/slide" Target="slides/slide52.xml"/><Relationship Id="rId69" Type="http://schemas.openxmlformats.org/officeDocument/2006/relationships/slide" Target="slides/slide53.xml"/><Relationship Id="rId7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dt" idx="4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dfdac7"/>
                </a:solidFill>
                <a:latin typeface="Arial"/>
              </a:rPr>
              <a:t>Click to move the slide</a:t>
            </a:r>
            <a:endParaRPr b="0" lang="en-US" sz="3300" spc="-1" strike="noStrike">
              <a:solidFill>
                <a:srgbClr val="dfdac7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ftr" idx="4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6"/>
          <p:cNvSpPr>
            <a:spLocks noGrp="1"/>
          </p:cNvSpPr>
          <p:nvPr>
            <p:ph type="sldNum" idx="4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F375D-5CA2-44A5-B8F7-3FE543E30E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E620F-4782-4420-AD5A-DBCD0BBDBFD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35ABE-DDFF-493D-9E29-B1013E5ABE4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1BD00-D547-4389-B993-CE09618F8C2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EF424-2183-4903-83B4-457A835CD8D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DF478-5C6F-4A20-85D4-98EB61796CB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B2627-ED39-4F1B-9BB9-ACF68EF1A58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FDF11-D3EE-4558-A530-736E727DD5A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880D5-0F64-494B-B29C-F0502C6535C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380EA-1B43-48DD-AAE2-3BBEE3F99D1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8CF03-24A1-4035-B828-CE42DE0EC62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B2941-F762-4EEF-BB7D-FD0D2D5BAC3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CCE40-BE4F-4BB9-B220-25A7592D134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EF7A7-FB14-42DE-BD29-8F27562AC1C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C7C36-6864-465B-A84A-13EA23F5D14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8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3AD1B-2F7A-4907-8FF3-D38F7028FA1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8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168D9-9624-4C54-BCCB-2391CFB5F85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8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24B68-6862-4732-A7B2-05A2E54B751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8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EBB4F-D8EE-434D-8AC9-54C6872F124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8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34A20-41D0-41C7-B5F5-B280256C47B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FE760-AC10-4957-B5D4-48A5E4675C9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8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7426E-46A3-43AF-A2B1-0C760A920FD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8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0F8EE-603C-4F1F-A56E-EEF722B04AB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14714-FC40-4EF6-9E2C-11C3A3F60DF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8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319E8-23E9-46F5-A30A-940A5128F2E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8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13B93-39EC-4EDA-A6A3-7FE2C45E722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8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F04D5-7402-4121-8836-D06703DF850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A9273-19E6-48ED-86DA-F785E7776FD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BDC6F-ED35-45D2-9666-25C0CFA61A9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8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919EE-E31C-4B96-8DC8-A6CC81AEEF4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8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3892E-7E56-471C-97EF-B4840163E0F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8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138A0-19C3-4B7A-8B93-670CA0F0357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8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76498-A59C-4FB3-BE41-DA445448D85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229D3-08BC-4688-A4CF-D9A7D2732B3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F40B9-5558-4C38-B5A0-824ED485463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8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8BF23-393C-4525-9B38-876E2B4893A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8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580B7-B7E1-43A2-89F8-F5A91EA1B45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8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24E2F-D41A-47EF-A175-9198AB29F3D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C6039-65BC-48B2-B212-DAECD364B17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8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F4066-162E-4E2B-AD1F-F8E9EBF0695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8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D974A-26A9-4723-8F3D-BC236F03372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8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1A1A0-BF26-45D6-88D3-D3D8744DA1F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9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259A8-726B-4970-A7CE-6D2050ABD11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9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6583B-862C-4B5E-993E-532FD1E5CAB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4F3B8-A000-4AB8-88EC-52C54374408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A27DB-DB26-4FCE-A9C7-ECDC4D510AC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9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99B4B-E0FB-49B0-831B-827D367F527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BE09F-00AE-4A16-B679-6A917535AF3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5F5DE-80C0-482E-B81E-EC253B1551E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33213-24EC-446E-928A-C1CAD0C6D71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8214F-F009-4FA0-BF9F-E118C136539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C2A1E-8A62-41C5-BDA6-72ED7D88820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84094-3A9D-4CAC-AF1D-9847580809E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5E905-21E4-4D74-ABFE-3103C0E1464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977831-2505-40F4-AC9B-F74DB5648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611532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8280" y="2976120"/>
            <a:ext cx="611532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80F40E-413C-43B7-9356-21BC107D3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298404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3592080" y="1201320"/>
            <a:ext cx="298404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5448784-5AD7-49D4-B86D-F488712BC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AB59820-D04F-46C5-AE9F-C181E1B42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457200" y="171360"/>
            <a:ext cx="6114960" cy="34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67862F5-911D-431B-8241-AD7AFBF60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592080" y="1201320"/>
            <a:ext cx="298404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8280" y="29761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6D302D4-8106-4805-AA12-7FDF98220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298404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5920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3592080" y="29761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CEACCFA-B53B-47E0-A0C4-3AB1B1AE4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5920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8280" y="2976120"/>
            <a:ext cx="611532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2ADEF4C-3A49-408A-9A17-175629B40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611532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58280" y="2976120"/>
            <a:ext cx="611532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6ACB871-2AF3-43F4-9340-20AE84F8C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5920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8280" y="29761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3592080" y="29761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D2D41C8-48EB-4EFB-941B-24548F31E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2526120" y="12013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93600" y="12013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58280" y="29761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2526120" y="29761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4593600" y="29761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454AA51-302A-4807-AD1C-2D420D92B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90C13D-5605-4B92-872E-1540D2788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920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8280" y="29761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592080" y="29761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D2A8DE-60BC-49B6-81E7-57C45A5AD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subTitle"/>
          </p:nvPr>
        </p:nvSpPr>
        <p:spPr>
          <a:xfrm>
            <a:off x="458280" y="1201320"/>
            <a:ext cx="6115320" cy="33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AC2F7C-A380-4DD2-A906-2962086E5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611532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E74912-EE94-43D7-946F-B0EABB0D8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298404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592080" y="1201320"/>
            <a:ext cx="298404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97B81E-58E2-4974-A860-A42B164FC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C6EC15-DAD7-4881-BFDB-5BFF915A8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ubTitle"/>
          </p:nvPr>
        </p:nvSpPr>
        <p:spPr>
          <a:xfrm>
            <a:off x="457200" y="171360"/>
            <a:ext cx="6114960" cy="34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7C576F-CDD3-4621-892F-27EED043D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592080" y="1201320"/>
            <a:ext cx="298404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8280" y="29761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24C89E-4C4F-41DD-863C-9E29118CB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298404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5920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3592080" y="29761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EC5375-1939-4253-BF7C-0CA7367D2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5920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8280" y="2976120"/>
            <a:ext cx="611532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D1257D-7AE9-4345-8C53-C160379C4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611532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58280" y="2976120"/>
            <a:ext cx="611532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C78586-A664-49C0-8672-0447819B6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5920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8280" y="29761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3592080" y="29761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28F536-2F2D-49FF-837D-DCE6C5C0B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2526120" y="12013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93600" y="12013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8280" y="29761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2526120" y="29761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4593600" y="29761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D2BE6C-D5B9-4BF0-B105-D2C258C8B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2526120" y="12013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93600" y="12013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58280" y="29761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6"/>
          <p:cNvSpPr>
            <a:spLocks noGrp="1"/>
          </p:cNvSpPr>
          <p:nvPr>
            <p:ph/>
          </p:nvPr>
        </p:nvSpPr>
        <p:spPr>
          <a:xfrm>
            <a:off x="2526120" y="29761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7"/>
          <p:cNvSpPr>
            <a:spLocks noGrp="1"/>
          </p:cNvSpPr>
          <p:nvPr>
            <p:ph/>
          </p:nvPr>
        </p:nvSpPr>
        <p:spPr>
          <a:xfrm>
            <a:off x="4593600" y="29761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D1735D-305F-4E17-BF7F-A4C7985C4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7DF7D3E-F7F4-45D4-BED8-62B54ECD7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subTitle"/>
          </p:nvPr>
        </p:nvSpPr>
        <p:spPr>
          <a:xfrm>
            <a:off x="458280" y="1201320"/>
            <a:ext cx="6115320" cy="33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FD2397B-2041-4D50-9A53-BA28DC2F6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611532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174A258-0E1A-47B0-8C2F-59F941F9C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298404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592080" y="1201320"/>
            <a:ext cx="298404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7E9E86F-1A1A-4A8C-A1AF-74D048930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AE8C8E5-B55A-4F4A-9975-5A0CBCCC7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ubTitle"/>
          </p:nvPr>
        </p:nvSpPr>
        <p:spPr>
          <a:xfrm>
            <a:off x="457200" y="171360"/>
            <a:ext cx="6114960" cy="34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5FB5F61-7740-4091-8D13-1085FF381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592080" y="1201320"/>
            <a:ext cx="298404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8280" y="29761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900C5BC-44C3-48D7-99D5-375AB9DD3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298404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5920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3592080" y="29761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BFBD5BF-7252-4D4A-B66F-7A59848A7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5920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8280" y="2976120"/>
            <a:ext cx="611532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92C7DE3-DED7-4B7B-951A-D43B55706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BA4F9-7436-4B5C-A2F4-C822FABD1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611532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58280" y="2976120"/>
            <a:ext cx="611532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43E58B5-7F6D-4D0A-A849-2D159CA96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35920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8280" y="29761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3592080" y="29761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BBF4FB1-94F5-4186-B5A5-8B4D42E65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2526120" y="12013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93600" y="12013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458280" y="29761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6"/>
          <p:cNvSpPr>
            <a:spLocks noGrp="1"/>
          </p:cNvSpPr>
          <p:nvPr>
            <p:ph/>
          </p:nvPr>
        </p:nvSpPr>
        <p:spPr>
          <a:xfrm>
            <a:off x="2526120" y="29761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7"/>
          <p:cNvSpPr>
            <a:spLocks noGrp="1"/>
          </p:cNvSpPr>
          <p:nvPr>
            <p:ph/>
          </p:nvPr>
        </p:nvSpPr>
        <p:spPr>
          <a:xfrm>
            <a:off x="4593600" y="29761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B9B4E4A-6B75-44E1-9B20-AA0BDD1AC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DCCA15-BF78-466B-B88F-11A2979CC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subTitle"/>
          </p:nvPr>
        </p:nvSpPr>
        <p:spPr>
          <a:xfrm>
            <a:off x="458280" y="1201320"/>
            <a:ext cx="6115320" cy="33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BF48A3-8676-440E-BF28-9D10E8036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611532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02944A-2C85-4690-A17E-2768A098C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298404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3592080" y="1201320"/>
            <a:ext cx="298404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5EE232-AF64-4322-861D-3E5321C73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50D6D8-2352-48D7-B4F8-EB566406E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ubTitle"/>
          </p:nvPr>
        </p:nvSpPr>
        <p:spPr>
          <a:xfrm>
            <a:off x="457200" y="171360"/>
            <a:ext cx="6114960" cy="34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2025F6-6BE6-4B89-BE35-04D3D0924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592080" y="1201320"/>
            <a:ext cx="298404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8280" y="29761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2D3901-6961-417F-BC09-61CCFE9A4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8280" y="1201320"/>
            <a:ext cx="6115320" cy="33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D6D75-30E3-4D64-ABD2-8EF7E5E21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298404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5920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3592080" y="29761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5E2636-FE57-453F-B627-68D0EADE4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35920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8280" y="2976120"/>
            <a:ext cx="611532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F4D8A7-9893-413F-9CE4-1E123C57F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611532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58280" y="2976120"/>
            <a:ext cx="611532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BB8599-983D-451F-AAE8-81010A21C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5920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8280" y="29761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3592080" y="29761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85715F-9A75-45AB-B4C2-1B3250303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2526120" y="12013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93600" y="12013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58280" y="29761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6"/>
          <p:cNvSpPr>
            <a:spLocks noGrp="1"/>
          </p:cNvSpPr>
          <p:nvPr>
            <p:ph/>
          </p:nvPr>
        </p:nvSpPr>
        <p:spPr>
          <a:xfrm>
            <a:off x="2526120" y="29761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7"/>
          <p:cNvSpPr>
            <a:spLocks noGrp="1"/>
          </p:cNvSpPr>
          <p:nvPr>
            <p:ph/>
          </p:nvPr>
        </p:nvSpPr>
        <p:spPr>
          <a:xfrm>
            <a:off x="4593600" y="29761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6F486B-F9BD-4F5F-97AF-5E6EF3C0C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FE7E9DC-DCB0-4A0A-AD64-8D93E4C57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subTitle"/>
          </p:nvPr>
        </p:nvSpPr>
        <p:spPr>
          <a:xfrm>
            <a:off x="458280" y="1201320"/>
            <a:ext cx="6115320" cy="33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B69B15C-B9CA-4F6B-B092-86BBE0782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611532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58F1BED-E54F-4E2D-AF27-B30C1B5CA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298404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3592080" y="1201320"/>
            <a:ext cx="298404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1E4A78D-4BF9-45E5-8270-7DDECED27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981E2F8-D3E0-4AF1-9227-896C2D8AB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611532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E5AA0-B801-4989-9578-F593212BA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ubTitle"/>
          </p:nvPr>
        </p:nvSpPr>
        <p:spPr>
          <a:xfrm>
            <a:off x="457200" y="171360"/>
            <a:ext cx="6114960" cy="34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5E2F928-8823-489E-9391-AB5D31D16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592080" y="1201320"/>
            <a:ext cx="298404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58280" y="29761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8D266FF-3A22-4B70-9BBA-EA40CADF6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298404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35920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3592080" y="29761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C2CA485-EC11-454E-8C65-250EDF85F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5920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8280" y="2976120"/>
            <a:ext cx="611532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32BD68C-DCFA-4ADB-8BFB-BBAD1AEB7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611532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58280" y="2976120"/>
            <a:ext cx="611532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B32526F-8AE9-4CD4-BB36-52A1BE85A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35920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8280" y="29761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3592080" y="29761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00DA178-FA9B-4ACC-808A-CEF29A4AE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2526120" y="12013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93600" y="12013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458280" y="29761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6"/>
          <p:cNvSpPr>
            <a:spLocks noGrp="1"/>
          </p:cNvSpPr>
          <p:nvPr>
            <p:ph/>
          </p:nvPr>
        </p:nvSpPr>
        <p:spPr>
          <a:xfrm>
            <a:off x="2526120" y="29761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7"/>
          <p:cNvSpPr>
            <a:spLocks noGrp="1"/>
          </p:cNvSpPr>
          <p:nvPr>
            <p:ph/>
          </p:nvPr>
        </p:nvSpPr>
        <p:spPr>
          <a:xfrm>
            <a:off x="4593600" y="29761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717EA47-A88A-431F-9605-98EEB454C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239332-02AB-4988-8DA6-AB32E96B3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subTitle"/>
          </p:nvPr>
        </p:nvSpPr>
        <p:spPr>
          <a:xfrm>
            <a:off x="458280" y="1201320"/>
            <a:ext cx="6115320" cy="33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B6E619-22D6-4F30-8A65-868220918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611532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5285EB-5797-4AE8-BE4E-8DFC916AA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298404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592080" y="1201320"/>
            <a:ext cx="298404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58455-094A-4A5E-9883-792A03454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298404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3592080" y="1201320"/>
            <a:ext cx="298404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D7E151-4EBC-429D-86A2-746F188EA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F04DF4-10AC-4F3B-9BD1-E8124DC3B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ubTitle"/>
          </p:nvPr>
        </p:nvSpPr>
        <p:spPr>
          <a:xfrm>
            <a:off x="457200" y="171360"/>
            <a:ext cx="6114960" cy="34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E5D95C-CDE2-455D-AD72-872504210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592080" y="1201320"/>
            <a:ext cx="298404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8280" y="29761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E19A90-4957-4A96-9B91-78CB52DC8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298404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5920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592080" y="29761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C7D7DFE-F122-4925-95BB-4B1CD7603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5920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58280" y="2976120"/>
            <a:ext cx="611532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5AFF51-5AC1-4CBF-BBF6-0ECC9149D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611532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58280" y="2976120"/>
            <a:ext cx="611532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05B020-4B70-409D-A9C4-142AAEE9B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5920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8280" y="29761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3592080" y="29761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01D285-6BF1-443D-8D21-A34C2A12F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2526120" y="12013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93600" y="12013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58280" y="29761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6"/>
          <p:cNvSpPr>
            <a:spLocks noGrp="1"/>
          </p:cNvSpPr>
          <p:nvPr>
            <p:ph/>
          </p:nvPr>
        </p:nvSpPr>
        <p:spPr>
          <a:xfrm>
            <a:off x="2526120" y="29761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7"/>
          <p:cNvSpPr>
            <a:spLocks noGrp="1"/>
          </p:cNvSpPr>
          <p:nvPr>
            <p:ph/>
          </p:nvPr>
        </p:nvSpPr>
        <p:spPr>
          <a:xfrm>
            <a:off x="4593600" y="29761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7B9F1D2-1CED-49CF-A47A-9F5198EF0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49997-DD7E-45A1-894A-736DC4188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171360"/>
            <a:ext cx="6114960" cy="34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5190B-9822-4D81-9653-E491B6FC7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592080" y="1201320"/>
            <a:ext cx="298404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8280" y="29761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37F0E-6404-48D7-9A45-6B6654DB0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8280" y="1201320"/>
            <a:ext cx="6115320" cy="33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D18BF1-7656-47A2-8167-427B2BCA6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298404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5920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592080" y="29761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56A44-E45F-4FF0-92A3-623054607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920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8280" y="2976120"/>
            <a:ext cx="611532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BE89E-FF8B-498C-9BB7-F50D28EF7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611532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8280" y="2976120"/>
            <a:ext cx="611532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14260-7365-4D70-BC56-5F41AE340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920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8280" y="29761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592080" y="29761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19AB8-DCFD-4EB1-A5DF-478E780C7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526120" y="12013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93600" y="12013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8280" y="29761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2526120" y="29761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4593600" y="29761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2AC8F-80DE-47ED-9CBF-72E98A927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CDE01C-D7A2-4240-8C7D-BF1E4B0C5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8280" y="1201320"/>
            <a:ext cx="6115320" cy="33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8BD3C9-563E-4C4B-96B1-F6124F0BA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611532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0327D3-1660-45B5-A362-196405065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298404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592080" y="1201320"/>
            <a:ext cx="298404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D65CD6-94B6-4244-AA1B-86435D6FE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6946F0-ECA8-4C6B-BC50-061CB8A2D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611532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A9D983-E3D1-41E1-80F3-E2A7814B4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171360"/>
            <a:ext cx="6114960" cy="34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E0544E-365E-42D8-AD34-8A9C5DE35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592080" y="1201320"/>
            <a:ext cx="298404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8280" y="29761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153819-0E24-449D-856B-4E0DE5AF6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298404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5920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592080" y="29761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33800F-CA67-4E8E-8428-24FCE4852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5920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8280" y="2976120"/>
            <a:ext cx="611532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A97199-6F9B-4947-BD02-985C02744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611532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8280" y="2976120"/>
            <a:ext cx="611532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664C27-53D4-405F-AE83-107342CA5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920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8280" y="29761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592080" y="29761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E0AB59-AAA3-496F-8020-5971DC66F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2526120" y="12013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93600" y="12013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8280" y="29761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2526120" y="29761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4593600" y="29761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58A2FF-B047-4D72-B688-BBD26C04F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825B30-27E4-4FA8-81EF-600C14756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8280" y="1201320"/>
            <a:ext cx="6115320" cy="33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F927BC-218D-4BB1-9B72-F39EC3242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611532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F831D8-320C-4F50-826D-7B9AB575B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298404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92080" y="1201320"/>
            <a:ext cx="298404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89589F-B612-4ADD-BA1C-83E0988DB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298404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592080" y="1201320"/>
            <a:ext cx="298404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DBBB97-5CCA-4760-B883-C90824240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FEA384-9606-4A15-B823-B31E4406E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171360"/>
            <a:ext cx="6114960" cy="34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314901-ED9A-405D-8698-BF77A118E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592080" y="1201320"/>
            <a:ext cx="298404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8280" y="29761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349BD6-F677-41AB-B1F5-FF0D07831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298404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5920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3592080" y="29761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E46965-8D23-4676-B1F4-54F2BF94E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5920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8280" y="2976120"/>
            <a:ext cx="611532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2A53AC-5558-43B6-8AD8-1A53B74A0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611532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8280" y="2976120"/>
            <a:ext cx="611532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93BC27-2BBE-4AC5-97FB-CBF7A5169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5920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8280" y="29761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3592080" y="29761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43FA55-374B-4A0E-AEA4-DE529FDB3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2526120" y="12013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93600" y="12013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8280" y="29761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2526120" y="29761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4593600" y="29761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B99EDC-F186-4170-8721-6E52831F5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2342EA-6836-4B3D-A430-9FAA23A9D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9F5CA3-A58D-4C15-9482-AAA319E67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8280" y="1201320"/>
            <a:ext cx="6115320" cy="33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1813A8-614A-4084-813F-A0AE15ECB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611532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CE422B-E33F-4087-B883-E21B9CDC4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298404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592080" y="1201320"/>
            <a:ext cx="298404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BA6F07-F73A-4E1B-B7D7-23393C233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5CDCDA-ED3C-4007-8EAD-EEDA2925E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171360"/>
            <a:ext cx="6114960" cy="34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1606CA-04D0-4EA6-B233-CE72D8874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592080" y="1201320"/>
            <a:ext cx="298404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8280" y="29761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D7EE18-A41A-4B61-B8A5-317334AED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298404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5920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592080" y="29761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34B703-B5DD-4FF3-B3FA-F492ECF0E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5920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8280" y="2976120"/>
            <a:ext cx="611532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030DCA-9D9F-48C1-AC4B-2938B5FFC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611532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8280" y="2976120"/>
            <a:ext cx="611532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654587-E4AD-4FF6-A9BF-C377D6658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5920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8280" y="29761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3592080" y="29761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55E540-2804-493D-90E1-3B4042730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171360"/>
            <a:ext cx="6114960" cy="34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0AC306-C136-4843-ACF0-3732C0ECA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526120" y="12013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93600" y="12013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8280" y="29761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526120" y="29761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4593600" y="29761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55E36C-CD8A-4F12-ABE4-67B1E9115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20CA53B-1A77-4FCF-8CB9-7667D2DDD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458280" y="1201320"/>
            <a:ext cx="6115320" cy="33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4005261-4D75-4B66-A1DE-492C5C503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611532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2FB6A7F-0EAF-4863-915B-B3726D557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298404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592080" y="1201320"/>
            <a:ext cx="298404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80FEB4B-56DC-40F5-87AD-63DD83F08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A091329-DA2A-41D9-9041-891FF8FAC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457200" y="171360"/>
            <a:ext cx="6114960" cy="34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3606489-C3A7-4975-8BB2-B153CEF99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592080" y="1201320"/>
            <a:ext cx="298404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8280" y="29761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8B8E004-9639-453A-8A0C-127D26155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298404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5920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3592080" y="29761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448CB25-5105-4070-BA36-8496A48BF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5920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8280" y="2976120"/>
            <a:ext cx="611532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97E45B9-AB2D-465E-8F80-555E3B9AB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592080" y="1201320"/>
            <a:ext cx="298404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8280" y="29761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6C9276-0D11-4B17-A6CA-4A6348DE9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611532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58280" y="2976120"/>
            <a:ext cx="611532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04E52CA-82BD-439B-A7AD-1FB34607F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5920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8280" y="29761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3592080" y="29761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DF6B562-9381-4F44-A04E-CE35FB53B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2526120" y="12013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93600" y="12013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58280" y="29761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2526120" y="29761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4593600" y="29761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B2EC8AF-05F5-4363-AEE2-9599F01BF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1338E3-5F6E-456B-8A40-8589E3095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8280" y="1201320"/>
            <a:ext cx="6115320" cy="33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BD6DBD-2D0C-410D-8D61-689663B76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611532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54EE02-D659-40A4-8868-F88442C3A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298404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3592080" y="1201320"/>
            <a:ext cx="298404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3D9D65-17EE-42E2-9219-5493FCB7A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69AFB0-2DED-402F-AF5D-A725031DF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71360"/>
            <a:ext cx="6114960" cy="34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408176-76E2-4C39-95C2-0CA510492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592080" y="1201320"/>
            <a:ext cx="298404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8280" y="29761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A40A2E-6305-427C-9EC8-B700D35D7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298404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5920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592080" y="29761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41F414-57DF-4685-BBEC-42EFD710B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298404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5920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3592080" y="29761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4B9DB2-A51A-4122-93F7-2AD4C0F85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5920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8280" y="2976120"/>
            <a:ext cx="611532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0B2C1C-1865-4EF5-9D98-BC29AF302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611532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8280" y="2976120"/>
            <a:ext cx="611532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78688E-59F8-4C65-965E-3BCFE2078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5920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8280" y="29761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3592080" y="29761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363FC3-9F2F-42E6-A9E4-FB298938C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526120" y="12013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93600" y="12013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8280" y="29761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526120" y="29761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4593600" y="29761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371465-C52D-489F-B3E3-F7429AFDA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A4A985-FE61-4F8F-8EE9-AE2378F46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8280" y="1201320"/>
            <a:ext cx="6115320" cy="33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7ED123-B67C-4F20-94B5-7B4EB7CF2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611532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7BDAE7-4DB1-4DEF-9D9A-4A300E31C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298404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592080" y="1201320"/>
            <a:ext cx="298404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BD3EB1-2D96-4FF4-AE3A-01838EA87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CB008F-19BF-4F46-AF47-72A790F05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920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8280" y="2976120"/>
            <a:ext cx="611532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F1C8AD-0FF2-4E12-AB76-8AAB3AA2D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71360"/>
            <a:ext cx="6114960" cy="34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C8946E-DC3D-4B2B-B826-4533DF3BD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592080" y="1201320"/>
            <a:ext cx="298404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8280" y="29761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ACA037-EA62-4562-A722-8D4CEA05E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298404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5920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3592080" y="29761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F7BA7D-FE52-4E54-BA91-104EF7CFB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5920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8280" y="2976120"/>
            <a:ext cx="611532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CA4E2E-CE87-43EB-A3BE-35043BDFD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611532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8280" y="2976120"/>
            <a:ext cx="611532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7EB5D1-DCD6-4FA2-936C-1C1B30735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5920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8280" y="29761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3592080" y="29761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7F29CB-BD9E-4D1C-8C03-AF7C7C9DC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2526120" y="12013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93600" y="12013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8280" y="29761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2526120" y="29761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4593600" y="29761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108F70-1DC5-4666-A53D-01E160F22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10D0CEA-A53E-4862-B47A-1F4A6B15E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458280" y="1201320"/>
            <a:ext cx="6115320" cy="33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4711470-3255-43A9-8045-F2D52CDEC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611532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0172288-378D-43E5-BD0E-A490A15C2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927000"/>
            <a:ext cx="6858000" cy="23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0" y="960480"/>
            <a:ext cx="399960" cy="171360"/>
          </a:xfrm>
          <a:prstGeom prst="rect">
            <a:avLst/>
          </a:prstGeom>
          <a:solidFill>
            <a:srgbClr val="efab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380880" y="898560"/>
            <a:ext cx="6477120" cy="6094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3840" bIns="338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9564b"/>
                </a:solidFill>
                <a:latin typeface="Tw Cen MT"/>
              </a:rPr>
              <a:t>Click to edit the title text format</a:t>
            </a: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8280" y="1201320"/>
            <a:ext cx="6115320" cy="33973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3840" bIns="33840" anchor="t">
            <a:normAutofit/>
          </a:bodyPr>
          <a:p>
            <a:pPr marL="239760" indent="-239760"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479520" indent="-204840">
              <a:spcBef>
                <a:spcPts val="524"/>
              </a:spcBef>
              <a:buClr>
                <a:srgbClr val="99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2" marL="685800" indent="-171360">
              <a:spcBef>
                <a:spcPts val="524"/>
              </a:spcBef>
              <a:buClr>
                <a:srgbClr val="efab1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3" marL="1028880" indent="-171720">
              <a:spcBef>
                <a:spcPts val="524"/>
              </a:spcBef>
              <a:buClr>
                <a:srgbClr val="78ac3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4" marL="1371600" indent="-171360">
              <a:spcBef>
                <a:spcPts val="524"/>
              </a:spcBef>
              <a:buClr>
                <a:srgbClr val="35ac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5" marL="1371600" indent="-171360">
              <a:spcBef>
                <a:spcPts val="524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6" marL="1371600" indent="-171360">
              <a:spcBef>
                <a:spcPts val="524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72000" y="4691160"/>
            <a:ext cx="2000160" cy="27288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3840" bIns="338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955800"/>
            <a:ext cx="380880" cy="55224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3840" bIns="3384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BED00-047F-4F45-9278-4A6A05E301D0}" type="slidenum">
              <a:rPr b="1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ftr" idx="3"/>
          </p:nvPr>
        </p:nvSpPr>
        <p:spPr>
          <a:xfrm>
            <a:off x="456840" y="4691160"/>
            <a:ext cx="4065480" cy="27288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3840" bIns="338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Date Placeholder 27"/>
          <p:cNvSpPr/>
          <p:nvPr/>
        </p:nvSpPr>
        <p:spPr>
          <a:xfrm>
            <a:off x="0" y="3489480"/>
            <a:ext cx="1542960" cy="5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05FD1-F882-4CBB-8820-527FE0400C81}" type="datetime">
              <a:rPr b="0" lang="en-US" sz="1500" spc="-1" strike="noStrike">
                <a:solidFill>
                  <a:srgbClr val="ffffff"/>
                </a:solidFill>
                <a:latin typeface="Tahoma"/>
              </a:rPr>
              <a:t>07/30/26</a:t>
            </a:fld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Rectangle 9"/>
          <p:cNvSpPr/>
          <p:nvPr/>
        </p:nvSpPr>
        <p:spPr>
          <a:xfrm>
            <a:off x="0" y="898560"/>
            <a:ext cx="463680" cy="612720"/>
          </a:xfrm>
          <a:prstGeom prst="rect">
            <a:avLst/>
          </a:prstGeom>
          <a:solidFill>
            <a:srgbClr val="efab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56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9"/>
          <p:cNvSpPr/>
          <p:nvPr/>
        </p:nvSpPr>
        <p:spPr>
          <a:xfrm>
            <a:off x="0" y="4483080"/>
            <a:ext cx="6858000" cy="66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Rectangle 10"/>
          <p:cNvSpPr/>
          <p:nvPr/>
        </p:nvSpPr>
        <p:spPr>
          <a:xfrm>
            <a:off x="-6480" y="4543560"/>
            <a:ext cx="1685880" cy="536400"/>
          </a:xfrm>
          <a:prstGeom prst="rect">
            <a:avLst/>
          </a:prstGeom>
          <a:solidFill>
            <a:srgbClr val="efab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Rectangle 11"/>
          <p:cNvSpPr/>
          <p:nvPr/>
        </p:nvSpPr>
        <p:spPr>
          <a:xfrm>
            <a:off x="1770120" y="4537080"/>
            <a:ext cx="5087880" cy="5349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dfdac7"/>
                </a:solidFill>
                <a:latin typeface="Tw Cen MT"/>
              </a:rPr>
              <a:t>Click to edit the title text format</a:t>
            </a:r>
            <a:endParaRPr b="0" lang="en-US" sz="3300" spc="-1" strike="noStrike">
              <a:solidFill>
                <a:srgbClr val="dfdac7"/>
              </a:solidFill>
              <a:latin typeface="Tw Cen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458280" y="1201320"/>
            <a:ext cx="611532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39760" indent="-239760"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  <a:p>
            <a:pPr lvl="1" marL="479520" indent="-204840">
              <a:spcBef>
                <a:spcPts val="524"/>
              </a:spcBef>
              <a:buClr>
                <a:srgbClr val="99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  <a:p>
            <a:pPr lvl="2" marL="685800" indent="-171360">
              <a:spcBef>
                <a:spcPts val="524"/>
              </a:spcBef>
              <a:buClr>
                <a:srgbClr val="efab1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  <a:p>
            <a:pPr lvl="3" marL="1028880" indent="-171720">
              <a:spcBef>
                <a:spcPts val="524"/>
              </a:spcBef>
              <a:buClr>
                <a:srgbClr val="78ac3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  <a:p>
            <a:pPr lvl="4" marL="1371600" indent="-171360">
              <a:spcBef>
                <a:spcPts val="524"/>
              </a:spcBef>
              <a:buClr>
                <a:srgbClr val="35ac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  <a:p>
            <a:pPr lvl="5" marL="1371600" indent="-171360">
              <a:spcBef>
                <a:spcPts val="524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  <a:p>
            <a:pPr lvl="6" marL="1371600" indent="-171360">
              <a:spcBef>
                <a:spcPts val="524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 type="dt" idx="28"/>
          </p:nvPr>
        </p:nvSpPr>
        <p:spPr>
          <a:xfrm>
            <a:off x="57240" y="4555800"/>
            <a:ext cx="1542960" cy="5144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 type="ftr" idx="29"/>
          </p:nvPr>
        </p:nvSpPr>
        <p:spPr>
          <a:xfrm>
            <a:off x="1563480" y="177480"/>
            <a:ext cx="4400280" cy="2746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 type="sldNum" idx="30"/>
          </p:nvPr>
        </p:nvSpPr>
        <p:spPr>
          <a:xfrm>
            <a:off x="6000840" y="171360"/>
            <a:ext cx="628560" cy="2858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dfdac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7F7D7-7500-4B37-8262-21A20B02B6D6}" type="slidenum">
              <a:rPr b="1" lang="en-US" sz="1100" spc="-1" strike="noStrike">
                <a:solidFill>
                  <a:srgbClr val="dfdac7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9"/>
          <p:cNvSpPr/>
          <p:nvPr/>
        </p:nvSpPr>
        <p:spPr>
          <a:xfrm>
            <a:off x="0" y="1144440"/>
            <a:ext cx="6858000" cy="85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7" name="Rectangle 10"/>
          <p:cNvSpPr/>
          <p:nvPr/>
        </p:nvSpPr>
        <p:spPr>
          <a:xfrm>
            <a:off x="0" y="1201680"/>
            <a:ext cx="971640" cy="743040"/>
          </a:xfrm>
          <a:prstGeom prst="rect">
            <a:avLst/>
          </a:prstGeom>
          <a:solidFill>
            <a:srgbClr val="efab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8" name="Rectangle 11"/>
          <p:cNvSpPr/>
          <p:nvPr/>
        </p:nvSpPr>
        <p:spPr>
          <a:xfrm>
            <a:off x="1028880" y="1201680"/>
            <a:ext cx="5829120" cy="74304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9564b"/>
                </a:solidFill>
                <a:latin typeface="Tw Cen MT"/>
              </a:rPr>
              <a:t>Click to edit the title text format</a:t>
            </a: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458280" y="1201320"/>
            <a:ext cx="611532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39760" indent="-239760"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479520" indent="-204840">
              <a:spcBef>
                <a:spcPts val="524"/>
              </a:spcBef>
              <a:buClr>
                <a:srgbClr val="99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2" marL="685800" indent="-171360">
              <a:spcBef>
                <a:spcPts val="524"/>
              </a:spcBef>
              <a:buClr>
                <a:srgbClr val="efab1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3" marL="1028880" indent="-171720">
              <a:spcBef>
                <a:spcPts val="524"/>
              </a:spcBef>
              <a:buClr>
                <a:srgbClr val="78ac3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4" marL="1371600" indent="-171360">
              <a:spcBef>
                <a:spcPts val="524"/>
              </a:spcBef>
              <a:buClr>
                <a:srgbClr val="35ac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5" marL="1371600" indent="-171360">
              <a:spcBef>
                <a:spcPts val="524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6" marL="1371600" indent="-171360">
              <a:spcBef>
                <a:spcPts val="524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 type="dt" idx="31"/>
          </p:nvPr>
        </p:nvSpPr>
        <p:spPr>
          <a:xfrm>
            <a:off x="4572000" y="4691160"/>
            <a:ext cx="2000160" cy="2728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 type="sldNum" idx="32"/>
          </p:nvPr>
        </p:nvSpPr>
        <p:spPr>
          <a:xfrm>
            <a:off x="-360" y="1316160"/>
            <a:ext cx="971640" cy="527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B9FB9-EA25-4F23-BD53-364502F125FA}" type="slidenum"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 type="ftr" idx="33"/>
          </p:nvPr>
        </p:nvSpPr>
        <p:spPr>
          <a:xfrm>
            <a:off x="456840" y="4691160"/>
            <a:ext cx="4065480" cy="2728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9564b"/>
                </a:solidFill>
                <a:latin typeface="Tw Cen MT"/>
              </a:rPr>
              <a:t>Click to edit the title text format</a:t>
            </a: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458280" y="1201320"/>
            <a:ext cx="611532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39760" indent="-239760"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479520" indent="-204840">
              <a:spcBef>
                <a:spcPts val="524"/>
              </a:spcBef>
              <a:buClr>
                <a:srgbClr val="99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2" marL="685800" indent="-171360">
              <a:spcBef>
                <a:spcPts val="524"/>
              </a:spcBef>
              <a:buClr>
                <a:srgbClr val="efab1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3" marL="1028880" indent="-171720">
              <a:spcBef>
                <a:spcPts val="524"/>
              </a:spcBef>
              <a:buClr>
                <a:srgbClr val="78ac3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4" marL="1371600" indent="-171360">
              <a:spcBef>
                <a:spcPts val="524"/>
              </a:spcBef>
              <a:buClr>
                <a:srgbClr val="35ac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5" marL="1371600" indent="-171360">
              <a:spcBef>
                <a:spcPts val="524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6" marL="1371600" indent="-171360">
              <a:spcBef>
                <a:spcPts val="524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 type="dt" idx="34"/>
          </p:nvPr>
        </p:nvSpPr>
        <p:spPr>
          <a:xfrm>
            <a:off x="4572000" y="4691160"/>
            <a:ext cx="2000160" cy="2728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 type="ftr" idx="35"/>
          </p:nvPr>
        </p:nvSpPr>
        <p:spPr>
          <a:xfrm>
            <a:off x="456840" y="4691160"/>
            <a:ext cx="4065480" cy="2728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 type="sldNum" idx="36"/>
          </p:nvPr>
        </p:nvSpPr>
        <p:spPr>
          <a:xfrm>
            <a:off x="-360" y="4690800"/>
            <a:ext cx="399960" cy="285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59564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2D137-94EC-4F59-8AA6-72B2F4C7EA93}" type="slidenum">
              <a:rPr b="1" lang="en-US" sz="1100" spc="-1" strike="noStrike">
                <a:solidFill>
                  <a:srgbClr val="59564b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9"/>
          <p:cNvSpPr/>
          <p:nvPr/>
        </p:nvSpPr>
        <p:spPr>
          <a:xfrm>
            <a:off x="-6480" y="3432240"/>
            <a:ext cx="6858000" cy="66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2" name="Rectangle 10"/>
          <p:cNvSpPr/>
          <p:nvPr/>
        </p:nvSpPr>
        <p:spPr>
          <a:xfrm>
            <a:off x="-6480" y="3500280"/>
            <a:ext cx="1096920" cy="536760"/>
          </a:xfrm>
          <a:prstGeom prst="rect">
            <a:avLst/>
          </a:prstGeom>
          <a:solidFill>
            <a:srgbClr val="efab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3" name="Rectangle 11"/>
          <p:cNvSpPr/>
          <p:nvPr/>
        </p:nvSpPr>
        <p:spPr>
          <a:xfrm>
            <a:off x="1158840" y="3494160"/>
            <a:ext cx="5699160" cy="5349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1085760" y="0"/>
            <a:ext cx="76320" cy="515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9564b"/>
                </a:solidFill>
                <a:latin typeface="Tw Cen MT"/>
              </a:rPr>
              <a:t>Click to edit the title text format</a:t>
            </a: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458280" y="1201320"/>
            <a:ext cx="611532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39760" indent="-239760"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479520" indent="-204840">
              <a:spcBef>
                <a:spcPts val="524"/>
              </a:spcBef>
              <a:buClr>
                <a:srgbClr val="99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2" marL="685800" indent="-171360">
              <a:spcBef>
                <a:spcPts val="524"/>
              </a:spcBef>
              <a:buClr>
                <a:srgbClr val="efab1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3" marL="1028880" indent="-171720">
              <a:spcBef>
                <a:spcPts val="524"/>
              </a:spcBef>
              <a:buClr>
                <a:srgbClr val="78ac3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4" marL="1371600" indent="-171360">
              <a:spcBef>
                <a:spcPts val="524"/>
              </a:spcBef>
              <a:buClr>
                <a:srgbClr val="35ac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5" marL="1371600" indent="-171360">
              <a:spcBef>
                <a:spcPts val="524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6" marL="1371600" indent="-171360">
              <a:spcBef>
                <a:spcPts val="524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 type="dt" idx="37"/>
          </p:nvPr>
        </p:nvSpPr>
        <p:spPr>
          <a:xfrm>
            <a:off x="4686480" y="4691160"/>
            <a:ext cx="2000160" cy="2728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 type="sldNum" idx="38"/>
          </p:nvPr>
        </p:nvSpPr>
        <p:spPr>
          <a:xfrm>
            <a:off x="0" y="3503160"/>
            <a:ext cx="1085760" cy="49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E07D0-509E-4880-B499-1B93D90DF112}" type="slidenum"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 type="ftr" idx="39"/>
          </p:nvPr>
        </p:nvSpPr>
        <p:spPr>
          <a:xfrm>
            <a:off x="1199880" y="4691160"/>
            <a:ext cx="3429000" cy="2728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9"/>
          <p:cNvSpPr/>
          <p:nvPr/>
        </p:nvSpPr>
        <p:spPr>
          <a:xfrm>
            <a:off x="4572000" y="0"/>
            <a:ext cx="239760" cy="514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7" name="Rectangle 10"/>
          <p:cNvSpPr/>
          <p:nvPr/>
        </p:nvSpPr>
        <p:spPr>
          <a:xfrm>
            <a:off x="4606920" y="457200"/>
            <a:ext cx="171360" cy="4691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Rectangle 11"/>
          <p:cNvSpPr/>
          <p:nvPr/>
        </p:nvSpPr>
        <p:spPr>
          <a:xfrm>
            <a:off x="4606920" y="0"/>
            <a:ext cx="171360" cy="399960"/>
          </a:xfrm>
          <a:prstGeom prst="rect">
            <a:avLst/>
          </a:prstGeom>
          <a:solidFill>
            <a:srgbClr val="efab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9564b"/>
                </a:solidFill>
                <a:latin typeface="Tw Cen MT"/>
              </a:rPr>
              <a:t>Click to edit the title text format</a:t>
            </a: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458280" y="1201320"/>
            <a:ext cx="611532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39760" indent="-239760"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479520" indent="-204840">
              <a:spcBef>
                <a:spcPts val="524"/>
              </a:spcBef>
              <a:buClr>
                <a:srgbClr val="99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2" marL="685800" indent="-171360">
              <a:spcBef>
                <a:spcPts val="524"/>
              </a:spcBef>
              <a:buClr>
                <a:srgbClr val="efab1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3" marL="1028880" indent="-171720">
              <a:spcBef>
                <a:spcPts val="524"/>
              </a:spcBef>
              <a:buClr>
                <a:srgbClr val="78ac3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4" marL="1371600" indent="-171360">
              <a:spcBef>
                <a:spcPts val="524"/>
              </a:spcBef>
              <a:buClr>
                <a:srgbClr val="35ac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5" marL="1371600" indent="-171360">
              <a:spcBef>
                <a:spcPts val="524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6" marL="1371600" indent="-171360">
              <a:spcBef>
                <a:spcPts val="524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 type="dt" idx="40"/>
          </p:nvPr>
        </p:nvSpPr>
        <p:spPr>
          <a:xfrm>
            <a:off x="4914720" y="4691160"/>
            <a:ext cx="1657080" cy="2728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 type="ftr" idx="41"/>
          </p:nvPr>
        </p:nvSpPr>
        <p:spPr>
          <a:xfrm>
            <a:off x="343080" y="4691160"/>
            <a:ext cx="4179600" cy="2728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 type="sldNum" idx="42"/>
          </p:nvPr>
        </p:nvSpPr>
        <p:spPr>
          <a:xfrm rot="5400000">
            <a:off x="4492440" y="107280"/>
            <a:ext cx="399960" cy="184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3A18A-7445-4CD9-8854-E60E31EA89E4}" type="slidenum">
              <a:rPr b="1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42720" y="206280"/>
            <a:ext cx="61722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342720" y="1201320"/>
            <a:ext cx="61722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96000" indent="-185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342720" y="4687920"/>
            <a:ext cx="160020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7FACA-9636-4D9C-8145-FAD59045DC4F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2343240" y="4687920"/>
            <a:ext cx="21715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4914720" y="4687920"/>
            <a:ext cx="160020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A2F20-7582-4180-96CC-E732DA7654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42720" y="206280"/>
            <a:ext cx="61722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342720" y="1201320"/>
            <a:ext cx="61722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96000" indent="-185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342720" y="4687920"/>
            <a:ext cx="160020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80F35-A9EA-4465-8AD6-E911A39D2C1E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2343240" y="4687920"/>
            <a:ext cx="21715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4914720" y="4687920"/>
            <a:ext cx="160020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70370-1957-4346-AB1C-F721F06CCE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9564b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59564b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8280" y="1201320"/>
            <a:ext cx="611532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39760" indent="-239760"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79520" indent="-204840">
              <a:spcBef>
                <a:spcPts val="524"/>
              </a:spcBef>
              <a:buClr>
                <a:srgbClr val="99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171360">
              <a:spcBef>
                <a:spcPts val="524"/>
              </a:spcBef>
              <a:buClr>
                <a:srgbClr val="efab1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171720">
              <a:spcBef>
                <a:spcPts val="524"/>
              </a:spcBef>
              <a:buClr>
                <a:srgbClr val="78ac3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171360">
              <a:spcBef>
                <a:spcPts val="524"/>
              </a:spcBef>
              <a:buClr>
                <a:srgbClr val="35ac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171360">
              <a:spcBef>
                <a:spcPts val="524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171360">
              <a:spcBef>
                <a:spcPts val="524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4914720" y="4691160"/>
            <a:ext cx="1657080" cy="2728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343080" y="4691160"/>
            <a:ext cx="4179600" cy="2728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2"/>
          </p:nvPr>
        </p:nvSpPr>
        <p:spPr>
          <a:xfrm rot="5400000">
            <a:off x="4492440" y="107280"/>
            <a:ext cx="399960" cy="184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2F2FB-C7E6-4699-8DED-07B27337DE19}" type="slidenum">
              <a:rPr b="1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9564b"/>
                </a:solidFill>
                <a:latin typeface="Tw Cen MT"/>
              </a:rPr>
              <a:t>Click to edit the title text format</a:t>
            </a: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8280" y="1201320"/>
            <a:ext cx="611532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39760" indent="-239760"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479520" indent="-204840">
              <a:spcBef>
                <a:spcPts val="524"/>
              </a:spcBef>
              <a:buClr>
                <a:srgbClr val="99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2" marL="685800" indent="-171360">
              <a:spcBef>
                <a:spcPts val="524"/>
              </a:spcBef>
              <a:buClr>
                <a:srgbClr val="efab1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3" marL="1028880" indent="-171720">
              <a:spcBef>
                <a:spcPts val="524"/>
              </a:spcBef>
              <a:buClr>
                <a:srgbClr val="78ac3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4" marL="1371600" indent="-171360">
              <a:spcBef>
                <a:spcPts val="524"/>
              </a:spcBef>
              <a:buClr>
                <a:srgbClr val="35ac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5" marL="1371600" indent="-171360">
              <a:spcBef>
                <a:spcPts val="524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6" marL="1371600" indent="-171360">
              <a:spcBef>
                <a:spcPts val="524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72000" y="4691160"/>
            <a:ext cx="2000160" cy="2728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456840" y="4691160"/>
            <a:ext cx="4065480" cy="2728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Rectangle 6"/>
          <p:cNvSpPr/>
          <p:nvPr/>
        </p:nvSpPr>
        <p:spPr>
          <a:xfrm>
            <a:off x="0" y="927000"/>
            <a:ext cx="6858000" cy="23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0" y="960480"/>
            <a:ext cx="399960" cy="171360"/>
          </a:xfrm>
          <a:prstGeom prst="rect">
            <a:avLst/>
          </a:prstGeom>
          <a:solidFill>
            <a:srgbClr val="efab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Rectangle 8"/>
          <p:cNvSpPr/>
          <p:nvPr/>
        </p:nvSpPr>
        <p:spPr>
          <a:xfrm>
            <a:off x="442800" y="960480"/>
            <a:ext cx="6415200" cy="1713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-360" y="955440"/>
            <a:ext cx="399960" cy="1825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1399A-90F6-479B-AFCC-A759EB7CA1F6}" type="slidenum">
              <a:rPr b="1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12"/>
          <p:cNvSpPr/>
          <p:nvPr/>
        </p:nvSpPr>
        <p:spPr>
          <a:xfrm>
            <a:off x="0" y="927000"/>
            <a:ext cx="6858000" cy="23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0" y="960480"/>
            <a:ext cx="399960" cy="171360"/>
          </a:xfrm>
          <a:prstGeom prst="rect">
            <a:avLst/>
          </a:prstGeom>
          <a:solidFill>
            <a:srgbClr val="efab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Rectangle 15"/>
          <p:cNvSpPr/>
          <p:nvPr/>
        </p:nvSpPr>
        <p:spPr>
          <a:xfrm>
            <a:off x="380880" y="898560"/>
            <a:ext cx="6477120" cy="6094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Date Placeholder 27"/>
          <p:cNvSpPr/>
          <p:nvPr/>
        </p:nvSpPr>
        <p:spPr>
          <a:xfrm>
            <a:off x="0" y="3489480"/>
            <a:ext cx="1542960" cy="5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1DB0F-CBDB-4225-8A6A-80C8836927C5}" type="datetime">
              <a:rPr b="0" lang="en-US" sz="1500" spc="-1" strike="noStrike">
                <a:solidFill>
                  <a:srgbClr val="ffffff"/>
                </a:solidFill>
                <a:latin typeface="Tahoma"/>
              </a:rPr>
              <a:t>07/30/26</a:t>
            </a:fld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Rectangle 9"/>
          <p:cNvSpPr/>
          <p:nvPr/>
        </p:nvSpPr>
        <p:spPr>
          <a:xfrm>
            <a:off x="0" y="898560"/>
            <a:ext cx="463680" cy="612720"/>
          </a:xfrm>
          <a:prstGeom prst="rect">
            <a:avLst/>
          </a:prstGeom>
          <a:solidFill>
            <a:srgbClr val="efab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3840" bIns="338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9564b"/>
                </a:solidFill>
                <a:latin typeface="Tw Cen MT"/>
              </a:rPr>
              <a:t>Click to edit the title text format</a:t>
            </a: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458280" y="1201320"/>
            <a:ext cx="6115320" cy="33973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3840" bIns="33840" anchor="t">
            <a:normAutofit/>
          </a:bodyPr>
          <a:p>
            <a:pPr marL="239760" indent="-239760"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479520" indent="-204840">
              <a:spcBef>
                <a:spcPts val="524"/>
              </a:spcBef>
              <a:buClr>
                <a:srgbClr val="99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2" marL="685800" indent="-171360">
              <a:spcBef>
                <a:spcPts val="524"/>
              </a:spcBef>
              <a:buClr>
                <a:srgbClr val="efab1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3" marL="1028880" indent="-171720">
              <a:spcBef>
                <a:spcPts val="524"/>
              </a:spcBef>
              <a:buClr>
                <a:srgbClr val="78ac3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4" marL="1371600" indent="-171360">
              <a:spcBef>
                <a:spcPts val="524"/>
              </a:spcBef>
              <a:buClr>
                <a:srgbClr val="35ac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5" marL="1371600" indent="-171360">
              <a:spcBef>
                <a:spcPts val="524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6" marL="1371600" indent="-171360">
              <a:spcBef>
                <a:spcPts val="524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6"/>
          </p:nvPr>
        </p:nvSpPr>
        <p:spPr>
          <a:xfrm>
            <a:off x="342720" y="4687920"/>
            <a:ext cx="1600200" cy="3571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3840" bIns="338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sldNum" idx="17"/>
          </p:nvPr>
        </p:nvSpPr>
        <p:spPr>
          <a:xfrm>
            <a:off x="4914720" y="4687920"/>
            <a:ext cx="1600200" cy="3571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3840" bIns="3384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1C48D-8C4E-4E93-B9D4-24A2295D04B4}" type="slidenum">
              <a:rPr b="1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ftr" idx="18"/>
          </p:nvPr>
        </p:nvSpPr>
        <p:spPr>
          <a:xfrm>
            <a:off x="2343240" y="4687920"/>
            <a:ext cx="2171520" cy="3571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3840" bIns="338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56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6"/>
          <p:cNvSpPr/>
          <p:nvPr/>
        </p:nvSpPr>
        <p:spPr>
          <a:xfrm>
            <a:off x="0" y="4483080"/>
            <a:ext cx="6858000" cy="66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Rectangle 9"/>
          <p:cNvSpPr/>
          <p:nvPr/>
        </p:nvSpPr>
        <p:spPr>
          <a:xfrm>
            <a:off x="-6480" y="4543560"/>
            <a:ext cx="1685880" cy="536400"/>
          </a:xfrm>
          <a:prstGeom prst="rect">
            <a:avLst/>
          </a:prstGeom>
          <a:solidFill>
            <a:srgbClr val="efab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1770120" y="4537080"/>
            <a:ext cx="5087880" cy="5349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dfdac7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dfdac7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8280" y="1201320"/>
            <a:ext cx="611532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39760" indent="-239760"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79520" indent="-204840">
              <a:spcBef>
                <a:spcPts val="524"/>
              </a:spcBef>
              <a:buClr>
                <a:srgbClr val="99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685800" indent="-171360">
              <a:spcBef>
                <a:spcPts val="524"/>
              </a:spcBef>
              <a:buClr>
                <a:srgbClr val="efab1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028880" indent="-171720">
              <a:spcBef>
                <a:spcPts val="524"/>
              </a:spcBef>
              <a:buClr>
                <a:srgbClr val="78ac3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4" marL="1371600" indent="-171360">
              <a:spcBef>
                <a:spcPts val="524"/>
              </a:spcBef>
              <a:buClr>
                <a:srgbClr val="35ac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5" marL="1371600" indent="-171360">
              <a:spcBef>
                <a:spcPts val="524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6" marL="1371600" indent="-171360">
              <a:spcBef>
                <a:spcPts val="524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57240" y="4555800"/>
            <a:ext cx="1542960" cy="5144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B2A5E-3614-4661-80C4-C030FDA3F1CB}" type="datetime"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1563480" y="177480"/>
            <a:ext cx="4400280" cy="2746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6000840" y="171360"/>
            <a:ext cx="628560" cy="2858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dfdac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F4D59-1095-44E4-8819-DDD84E891315}" type="slidenum">
              <a:rPr b="1" lang="en-US" sz="1100" spc="-1" strike="noStrike">
                <a:solidFill>
                  <a:srgbClr val="dfdac7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6"/>
          <p:cNvSpPr/>
          <p:nvPr/>
        </p:nvSpPr>
        <p:spPr>
          <a:xfrm>
            <a:off x="4572000" y="0"/>
            <a:ext cx="239760" cy="514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Rectangle 7"/>
          <p:cNvSpPr/>
          <p:nvPr/>
        </p:nvSpPr>
        <p:spPr>
          <a:xfrm>
            <a:off x="4606920" y="457200"/>
            <a:ext cx="171360" cy="4691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Rectangle 8"/>
          <p:cNvSpPr/>
          <p:nvPr/>
        </p:nvSpPr>
        <p:spPr>
          <a:xfrm>
            <a:off x="4606920" y="0"/>
            <a:ext cx="171360" cy="399960"/>
          </a:xfrm>
          <a:prstGeom prst="rect">
            <a:avLst/>
          </a:prstGeom>
          <a:solidFill>
            <a:srgbClr val="efab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9564b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59564b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8280" y="1201320"/>
            <a:ext cx="611532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39760" indent="-239760"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79520" indent="-204840">
              <a:spcBef>
                <a:spcPts val="524"/>
              </a:spcBef>
              <a:buClr>
                <a:srgbClr val="99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171360">
              <a:spcBef>
                <a:spcPts val="524"/>
              </a:spcBef>
              <a:buClr>
                <a:srgbClr val="efab1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171720">
              <a:spcBef>
                <a:spcPts val="524"/>
              </a:spcBef>
              <a:buClr>
                <a:srgbClr val="78ac3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171360">
              <a:spcBef>
                <a:spcPts val="524"/>
              </a:spcBef>
              <a:buClr>
                <a:srgbClr val="35ac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171360">
              <a:spcBef>
                <a:spcPts val="524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171360">
              <a:spcBef>
                <a:spcPts val="524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22"/>
          </p:nvPr>
        </p:nvSpPr>
        <p:spPr>
          <a:xfrm>
            <a:off x="4914720" y="4691160"/>
            <a:ext cx="1657080" cy="2728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ftr" idx="23"/>
          </p:nvPr>
        </p:nvSpPr>
        <p:spPr>
          <a:xfrm>
            <a:off x="343080" y="4691160"/>
            <a:ext cx="4179600" cy="2728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sldNum" idx="24"/>
          </p:nvPr>
        </p:nvSpPr>
        <p:spPr>
          <a:xfrm rot="5400000">
            <a:off x="4492440" y="107280"/>
            <a:ext cx="399960" cy="184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C1C7D-51C9-41CA-AD10-BF5C8A8000B5}" type="slidenum">
              <a:rPr b="1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6"/>
          <p:cNvSpPr/>
          <p:nvPr/>
        </p:nvSpPr>
        <p:spPr>
          <a:xfrm>
            <a:off x="-6480" y="3432240"/>
            <a:ext cx="6858000" cy="66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Rectangle 7"/>
          <p:cNvSpPr/>
          <p:nvPr/>
        </p:nvSpPr>
        <p:spPr>
          <a:xfrm>
            <a:off x="-6480" y="3500280"/>
            <a:ext cx="1096920" cy="536760"/>
          </a:xfrm>
          <a:prstGeom prst="rect">
            <a:avLst/>
          </a:prstGeom>
          <a:solidFill>
            <a:srgbClr val="efab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Rectangle 8"/>
          <p:cNvSpPr/>
          <p:nvPr/>
        </p:nvSpPr>
        <p:spPr>
          <a:xfrm>
            <a:off x="1158840" y="3494160"/>
            <a:ext cx="5699160" cy="5349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Rectangle 9"/>
          <p:cNvSpPr/>
          <p:nvPr/>
        </p:nvSpPr>
        <p:spPr>
          <a:xfrm>
            <a:off x="1085760" y="0"/>
            <a:ext cx="76320" cy="515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9564b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59564b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458280" y="1201320"/>
            <a:ext cx="611532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39760" indent="-239760"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79520" indent="-204840">
              <a:spcBef>
                <a:spcPts val="524"/>
              </a:spcBef>
              <a:buClr>
                <a:srgbClr val="99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171360">
              <a:spcBef>
                <a:spcPts val="524"/>
              </a:spcBef>
              <a:buClr>
                <a:srgbClr val="efab1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171720">
              <a:spcBef>
                <a:spcPts val="524"/>
              </a:spcBef>
              <a:buClr>
                <a:srgbClr val="78ac3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171360">
              <a:spcBef>
                <a:spcPts val="524"/>
              </a:spcBef>
              <a:buClr>
                <a:srgbClr val="35ac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171360">
              <a:spcBef>
                <a:spcPts val="524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171360">
              <a:spcBef>
                <a:spcPts val="524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dt" idx="25"/>
          </p:nvPr>
        </p:nvSpPr>
        <p:spPr>
          <a:xfrm>
            <a:off x="4686480" y="4691160"/>
            <a:ext cx="2000160" cy="2728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sldNum" idx="26"/>
          </p:nvPr>
        </p:nvSpPr>
        <p:spPr>
          <a:xfrm>
            <a:off x="0" y="3503160"/>
            <a:ext cx="1085760" cy="49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42FB4-1A51-40A5-9427-B0C480EB9B22}" type="slidenum"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7"/>
          </p:nvPr>
        </p:nvSpPr>
        <p:spPr>
          <a:xfrm>
            <a:off x="1199880" y="4691160"/>
            <a:ext cx="3429000" cy="2728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www.fjc.gov/servlet/tGetMan?jid=241" TargetMode="External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stevens.edu/library/collections/taylor.html" TargetMode="External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hyperlink" Target="http://melbecon.unimelb.edu.au/het/taylor/sciman.htm" TargetMode="External"/><Relationship Id="rId2" Type="http://schemas.openxmlformats.org/officeDocument/2006/relationships/hyperlink" Target="http://melbecon.unimelb.edu.au/het/taylor/sciman.htm" TargetMode="External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5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2819160" y="896400"/>
            <a:ext cx="3809880" cy="13734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ac7"/>
                </a:solidFill>
                <a:latin typeface="Arial"/>
              </a:rPr>
              <a:t>THE EVOLUTION OF MANAGEMENT THOUGHT, 6</a:t>
            </a:r>
            <a:r>
              <a:rPr b="0" lang="en-US" sz="3200" spc="-1" strike="noStrike" baseline="30000">
                <a:solidFill>
                  <a:srgbClr val="dfdac7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dfdac7"/>
                </a:solidFill>
                <a:latin typeface="Arial"/>
              </a:rPr>
              <a:t> EDITION</a:t>
            </a:r>
            <a:endParaRPr b="0" lang="en-US" sz="3200" spc="-1" strike="noStrike">
              <a:solidFill>
                <a:srgbClr val="dfdac7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subTitle"/>
          </p:nvPr>
        </p:nvSpPr>
        <p:spPr>
          <a:xfrm>
            <a:off x="1828800" y="4554360"/>
            <a:ext cx="5029200" cy="5940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lectronic Resource b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gina Greenwood and Julia Teahe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9" name="Picture 6" descr="Wren_Cover.pdf"/>
          <p:cNvPicPr/>
          <p:nvPr/>
        </p:nvPicPr>
        <p:blipFill>
          <a:blip r:embed="rId1"/>
          <a:stretch/>
        </p:blipFill>
        <p:spPr>
          <a:xfrm>
            <a:off x="152280" y="185760"/>
            <a:ext cx="2590920" cy="41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8280" y="171360"/>
            <a:ext cx="611532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9564b"/>
                </a:solidFill>
                <a:latin typeface="Tw Cen MT"/>
              </a:rPr>
              <a:t>Natural Soldiering</a:t>
            </a: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458280" y="1201320"/>
            <a:ext cx="6115320" cy="33750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39760" indent="-239760"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Natural soldiering – “the natural instinct and tendency of men to take it easy.”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39760" indent="-239760"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Taylor blamed management for not designing jobs properly and not offering proper incentives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39760" indent="-239760"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Taylor initially thought that a supervisor may be able to inspire or force workers to stop natural soldiering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8280" y="171360"/>
            <a:ext cx="611532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9564b"/>
                </a:solidFill>
                <a:latin typeface="Tw Cen MT"/>
              </a:rPr>
              <a:t>Systematic Soldiering</a:t>
            </a: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651" name=""/>
          <p:cNvSpPr txBox="1"/>
          <p:nvPr/>
        </p:nvSpPr>
        <p:spPr>
          <a:xfrm>
            <a:off x="458280" y="1201320"/>
            <a:ext cx="6115320" cy="33750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 fontScale="97000"/>
          </a:bodyPr>
          <a:p>
            <a:pPr marL="232560" indent="-232560">
              <a:lnSpc>
                <a:spcPct val="90000"/>
              </a:lnSpc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ystematic soldiering resulted from group pressure on individuals to conform to output norms set by the work group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32560" indent="-232560">
              <a:lnSpc>
                <a:spcPct val="90000"/>
              </a:lnSpc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Taylor attributed this to a “lump of labor” theory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32560" indent="-232560">
              <a:lnSpc>
                <a:spcPct val="90000"/>
              </a:lnSpc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Taylor felt he could overcome soldiering and improve the situation if workers knew that the production standards were established by a study of the job, rather than by historical data, and if incentives could be provided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8280" y="171360"/>
            <a:ext cx="611532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9564b"/>
                </a:solidFill>
                <a:latin typeface="Tw Cen MT"/>
              </a:rPr>
              <a:t>Time Study</a:t>
            </a: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458280" y="1201320"/>
            <a:ext cx="6115320" cy="33750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39760" indent="-239760"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Time study was a prescriptive in that Taylor sought to identify the time a job </a:t>
            </a:r>
            <a:r>
              <a:rPr b="1" i="1" lang="en-US" sz="2200" spc="-1" strike="noStrike">
                <a:solidFill>
                  <a:srgbClr val="000000"/>
                </a:solidFill>
                <a:latin typeface="Tw Cen MT"/>
              </a:rPr>
              <a:t>should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 take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39760" indent="-239760"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Time study was </a:t>
            </a:r>
            <a:r>
              <a:rPr b="1" i="1" lang="en-US" sz="2200" spc="-1" strike="noStrike">
                <a:solidFill>
                  <a:srgbClr val="000000"/>
                </a:solidFill>
                <a:latin typeface="Tw Cen MT"/>
              </a:rPr>
              <a:t>analytical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, breaking the job into its components and eliminating useless movements; and </a:t>
            </a:r>
            <a:r>
              <a:rPr b="1" i="1" lang="en-US" sz="2200" spc="-1" strike="noStrike">
                <a:solidFill>
                  <a:srgbClr val="000000"/>
                </a:solidFill>
                <a:latin typeface="Tw Cen MT"/>
              </a:rPr>
              <a:t>constructive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, building a file of movements that were common to other jobs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/>
          </p:nvPr>
        </p:nvSpPr>
        <p:spPr>
          <a:xfrm>
            <a:off x="1200240" y="4117680"/>
            <a:ext cx="5486400" cy="5158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aylor intended to use a scientific fact-finding method to determine a better way to work. These are Taylor’s notes for shoveling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title"/>
          </p:nvPr>
        </p:nvSpPr>
        <p:spPr>
          <a:xfrm>
            <a:off x="1200240" y="3489480"/>
            <a:ext cx="5486400" cy="5140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Search for Science in Management</a:t>
            </a:r>
            <a:endParaRPr b="0" lang="en-US" sz="2100" spc="-1" strike="noStrike">
              <a:solidFill>
                <a:srgbClr val="59564b"/>
              </a:solidFill>
              <a:latin typeface="Arial"/>
            </a:endParaRPr>
          </a:p>
        </p:txBody>
      </p:sp>
      <p:pic>
        <p:nvPicPr>
          <p:cNvPr id="656" name="Picture Placeholder 9" descr="shoveling.jpg"/>
          <p:cNvPicPr/>
          <p:nvPr/>
        </p:nvPicPr>
        <p:blipFill>
          <a:blip r:embed="rId1"/>
          <a:srcRect l="-3061" t="0" r="-3061" b="0"/>
          <a:stretch/>
        </p:blipFill>
        <p:spPr>
          <a:xfrm>
            <a:off x="1170000" y="0"/>
            <a:ext cx="5688000" cy="34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ubTitle"/>
          </p:nvPr>
        </p:nvSpPr>
        <p:spPr>
          <a:xfrm>
            <a:off x="1771560" y="4541400"/>
            <a:ext cx="5029200" cy="5144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Optimum Shovel for Loa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8" name="Picture 4" descr="shovel and pig iron.gif"/>
          <p:cNvPicPr/>
          <p:nvPr/>
        </p:nvPicPr>
        <p:blipFill>
          <a:blip r:embed="rId1"/>
          <a:stretch/>
        </p:blipFill>
        <p:spPr>
          <a:xfrm>
            <a:off x="1676520" y="0"/>
            <a:ext cx="3429000" cy="44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9564b"/>
                </a:solidFill>
                <a:latin typeface="Tw Cen MT"/>
              </a:rPr>
              <a:t>A Better Way</a:t>
            </a: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pic>
        <p:nvPicPr>
          <p:cNvPr id="660" name="Picture 9" descr="frederick_taylor"/>
          <p:cNvPicPr/>
          <p:nvPr/>
        </p:nvPicPr>
        <p:blipFill>
          <a:blip r:embed="rId1"/>
          <a:srcRect l="-13009" t="0" r="-13009" b="0"/>
          <a:stretch/>
        </p:blipFill>
        <p:spPr>
          <a:xfrm>
            <a:off x="457200" y="1193760"/>
            <a:ext cx="2914560" cy="3432240"/>
          </a:xfrm>
          <a:prstGeom prst="rect">
            <a:avLst/>
          </a:prstGeom>
          <a:ln w="0">
            <a:noFill/>
          </a:ln>
        </p:spPr>
      </p:pic>
      <p:sp>
        <p:nvSpPr>
          <p:cNvPr id="661" name=""/>
          <p:cNvSpPr txBox="1"/>
          <p:nvPr/>
        </p:nvSpPr>
        <p:spPr>
          <a:xfrm>
            <a:off x="3633840" y="1193760"/>
            <a:ext cx="2914560" cy="34322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 fontScale="91000"/>
          </a:bodyPr>
          <a:p>
            <a:pPr marL="218160" indent="-218160"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In modern terms, Taylor’s concept of job design was to analyze the job, discard wasted movements, and reconstruct the job as it should be done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218160" indent="-218160"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He also sought to find the right tools, the right way to operate the machinery, and the right way to operate the machinery to make the job more efficient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9564b"/>
                </a:solidFill>
                <a:latin typeface="Tw Cen MT"/>
              </a:rPr>
              <a:t>A Better Way</a:t>
            </a: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pic>
        <p:nvPicPr>
          <p:cNvPr id="663" name="Picture 6" descr="wyoming_shovel"/>
          <p:cNvPicPr/>
          <p:nvPr/>
        </p:nvPicPr>
        <p:blipFill>
          <a:blip r:embed="rId1"/>
          <a:srcRect l="-8634" t="0" r="-8634" b="0"/>
          <a:stretch/>
        </p:blipFill>
        <p:spPr>
          <a:xfrm>
            <a:off x="457200" y="1193760"/>
            <a:ext cx="2914560" cy="3432240"/>
          </a:xfrm>
          <a:prstGeom prst="rect">
            <a:avLst/>
          </a:prstGeom>
          <a:ln w="0">
            <a:noFill/>
          </a:ln>
        </p:spPr>
      </p:pic>
      <p:sp>
        <p:nvSpPr>
          <p:cNvPr id="664" name=""/>
          <p:cNvSpPr txBox="1"/>
          <p:nvPr/>
        </p:nvSpPr>
        <p:spPr>
          <a:xfrm>
            <a:off x="3633840" y="1193760"/>
            <a:ext cx="2914560" cy="34322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 fontScale="97000"/>
          </a:bodyPr>
          <a:p>
            <a:pPr marL="232560" indent="-232560">
              <a:lnSpc>
                <a:spcPct val="80000"/>
              </a:lnSpc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w Cen MT"/>
              </a:rPr>
              <a:t>At the time, Scientific Management was the latest management fad…it was bigger than reengineering and lean manufacturing is today.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marL="232560" indent="-232560">
              <a:lnSpc>
                <a:spcPct val="80000"/>
              </a:lnSpc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w Cen MT"/>
              </a:rPr>
              <a:t>The ad on the left demonstrates the popularity.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marL="232560" indent="-232560">
              <a:lnSpc>
                <a:spcPct val="80000"/>
              </a:lnSpc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w Cen MT"/>
              </a:rPr>
              <a:t>However, the ad is misleading. There is not one, all purpose “scientific shovel” – the ideal shovel is based on the weight of material it moves.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9564b"/>
                </a:solidFill>
                <a:latin typeface="Tw Cen MT"/>
              </a:rPr>
              <a:t>Front Page News</a:t>
            </a: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pic>
        <p:nvPicPr>
          <p:cNvPr id="666" name="Picture 2054" descr="cartoon_taylor"/>
          <p:cNvPicPr/>
          <p:nvPr/>
        </p:nvPicPr>
        <p:blipFill>
          <a:blip r:embed="rId1"/>
          <a:srcRect l="0" t="-10782" r="0" b="-10782"/>
          <a:stretch/>
        </p:blipFill>
        <p:spPr>
          <a:xfrm>
            <a:off x="457200" y="1193760"/>
            <a:ext cx="2914560" cy="3432240"/>
          </a:xfrm>
          <a:prstGeom prst="rect">
            <a:avLst/>
          </a:prstGeom>
          <a:ln w="0">
            <a:noFill/>
          </a:ln>
        </p:spPr>
      </p:pic>
      <p:sp>
        <p:nvSpPr>
          <p:cNvPr id="667" name=""/>
          <p:cNvSpPr txBox="1"/>
          <p:nvPr/>
        </p:nvSpPr>
        <p:spPr>
          <a:xfrm>
            <a:off x="3633840" y="1193760"/>
            <a:ext cx="2914560" cy="34322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39760" indent="-239760">
              <a:lnSpc>
                <a:spcPct val="90000"/>
              </a:lnSpc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Taylor made front page news the Sunday after he spoke at the ASME conference in 1903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239760" indent="-239760">
              <a:lnSpc>
                <a:spcPct val="90000"/>
              </a:lnSpc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He basically read </a:t>
            </a:r>
            <a:r>
              <a:rPr b="0" i="1" lang="en-US" sz="1800" spc="-1" strike="noStrike">
                <a:solidFill>
                  <a:srgbClr val="000000"/>
                </a:solidFill>
                <a:latin typeface="Tw Cen MT"/>
              </a:rPr>
              <a:t>Shop Management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 word for word to the group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239760" indent="-239760">
              <a:lnSpc>
                <a:spcPct val="90000"/>
              </a:lnSpc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Even though many thought his speech was boring…the story made it to the front page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8280" y="171360"/>
            <a:ext cx="611532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9564b"/>
                </a:solidFill>
                <a:latin typeface="Tw Cen MT"/>
              </a:rPr>
              <a:t>Frederick Taylor and Incentives</a:t>
            </a: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669" name=""/>
          <p:cNvSpPr txBox="1"/>
          <p:nvPr/>
        </p:nvSpPr>
        <p:spPr>
          <a:xfrm>
            <a:off x="458280" y="1201320"/>
            <a:ext cx="6115320" cy="33750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39760" indent="-239760"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Taylor criticized systems of payment based on quantity and quality of work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39760" indent="-239760"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Taylor’s system consisted of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479520" indent="-204840"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(1) observation and analysis through time study to set the standard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479520" indent="-204840"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(2) a differential rate system of piecework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479520" indent="-204840"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(3) “paying men and not positions.”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8280" y="171360"/>
            <a:ext cx="611532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9564b"/>
                </a:solidFill>
                <a:latin typeface="Tw Cen MT"/>
              </a:rPr>
              <a:t>Frederick Taylor and Incentives</a:t>
            </a: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671" name=""/>
          <p:cNvSpPr txBox="1"/>
          <p:nvPr/>
        </p:nvSpPr>
        <p:spPr>
          <a:xfrm>
            <a:off x="458280" y="1201320"/>
            <a:ext cx="6115320" cy="33750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 fontScale="97000"/>
          </a:bodyPr>
          <a:p>
            <a:pPr marL="232560" indent="-232560">
              <a:lnSpc>
                <a:spcPct val="90000"/>
              </a:lnSpc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Taylor discouraged profit sharing because it did not reward the individual and because it occurred long after the performance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32560" indent="-232560">
              <a:lnSpc>
                <a:spcPct val="90000"/>
              </a:lnSpc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Taylor’s differential piece-rate paid those who did not reach the performance standard an ordinary rate of pay (like minimum wage); a higher rate of pay was given for attaining the standard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32560" indent="-232560">
              <a:lnSpc>
                <a:spcPct val="90000"/>
              </a:lnSpc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Taylor also recognized non-economic incentives, like promotion and shorter hours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/>
          </p:nvPr>
        </p:nvSpPr>
        <p:spPr>
          <a:xfrm>
            <a:off x="1200240" y="4117680"/>
            <a:ext cx="5486400" cy="5158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Scientific Management 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title"/>
          </p:nvPr>
        </p:nvSpPr>
        <p:spPr>
          <a:xfrm>
            <a:off x="1200240" y="3489480"/>
            <a:ext cx="5486400" cy="5140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Part Two</a:t>
            </a:r>
            <a:endParaRPr b="0" lang="en-US" sz="2100" spc="-1" strike="noStrike">
              <a:solidFill>
                <a:srgbClr val="59564b"/>
              </a:solidFill>
              <a:latin typeface="Arial"/>
            </a:endParaRPr>
          </a:p>
        </p:txBody>
      </p:sp>
      <p:pic>
        <p:nvPicPr>
          <p:cNvPr id="622" name="Picture Placeholder 6" descr="train_rg.jpg"/>
          <p:cNvPicPr/>
          <p:nvPr/>
        </p:nvPicPr>
        <p:blipFill>
          <a:blip r:embed="rId1"/>
          <a:stretch/>
        </p:blipFill>
        <p:spPr>
          <a:xfrm>
            <a:off x="1163520" y="-6480"/>
            <a:ext cx="5700960" cy="34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8280" y="171360"/>
            <a:ext cx="611532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9564b"/>
                </a:solidFill>
                <a:latin typeface="Tw Cen MT"/>
              </a:rPr>
              <a:t>“</a:t>
            </a:r>
            <a:r>
              <a:rPr b="0" lang="en-US" sz="3300" spc="-1" strike="noStrike">
                <a:solidFill>
                  <a:srgbClr val="59564b"/>
                </a:solidFill>
                <a:latin typeface="Tw Cen MT"/>
              </a:rPr>
              <a:t>First-Class” Worker</a:t>
            </a: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673" name=""/>
          <p:cNvSpPr txBox="1"/>
          <p:nvPr/>
        </p:nvSpPr>
        <p:spPr>
          <a:xfrm>
            <a:off x="458280" y="1201320"/>
            <a:ext cx="6115320" cy="33750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39760" indent="-239760"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Taylor believed that everyone was best or “first class” at some type of work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39760" indent="-239760"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Taylor believed there should be a match between a person’s abilities and the person’s job placement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8280" y="171360"/>
            <a:ext cx="611532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9564b"/>
                </a:solidFill>
                <a:latin typeface="Tw Cen MT"/>
              </a:rPr>
              <a:t>Task Management</a:t>
            </a: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675" name=""/>
          <p:cNvSpPr txBox="1"/>
          <p:nvPr/>
        </p:nvSpPr>
        <p:spPr>
          <a:xfrm>
            <a:off x="458280" y="1201320"/>
            <a:ext cx="6115320" cy="33750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39760" indent="-239760">
              <a:lnSpc>
                <a:spcPct val="90000"/>
              </a:lnSpc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Task Management consisted of time study and developing performance standards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39760" indent="-239760">
              <a:lnSpc>
                <a:spcPct val="90000"/>
              </a:lnSpc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election of workers and the differential piece rate system was included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39760" indent="-239760">
              <a:lnSpc>
                <a:spcPct val="90000"/>
              </a:lnSpc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Management was responsible for designing the job properly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39760" indent="-239760">
              <a:lnSpc>
                <a:spcPct val="90000"/>
              </a:lnSpc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Task Management depended on planning, organizing, and guiding the work to completion 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39760" indent="-239760">
              <a:lnSpc>
                <a:spcPct val="90000"/>
              </a:lnSpc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39760" indent="-239760">
              <a:lnSpc>
                <a:spcPct val="90000"/>
              </a:lnSpc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39760" indent="-239760">
              <a:lnSpc>
                <a:spcPct val="90000"/>
              </a:lnSpc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ubTitle"/>
          </p:nvPr>
        </p:nvSpPr>
        <p:spPr>
          <a:xfrm>
            <a:off x="1771560" y="4541400"/>
            <a:ext cx="5029200" cy="5144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igure 7-1 Functional Foreman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677" name="Picture Placeholder 5" descr="functional foreman.gif"/>
          <p:cNvPicPr/>
          <p:nvPr/>
        </p:nvPicPr>
        <p:blipFill>
          <a:blip r:embed="rId1"/>
          <a:srcRect l="-8320" t="0" r="-8320" b="0"/>
          <a:stretch/>
        </p:blipFill>
        <p:spPr>
          <a:xfrm>
            <a:off x="457200" y="363600"/>
            <a:ext cx="6192720" cy="37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8280" y="171360"/>
            <a:ext cx="611532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9564b"/>
                </a:solidFill>
                <a:latin typeface="Tw Cen MT"/>
              </a:rPr>
              <a:t>“</a:t>
            </a:r>
            <a:r>
              <a:rPr b="0" lang="en-US" sz="2700" spc="-1" strike="noStrike">
                <a:solidFill>
                  <a:srgbClr val="59564b"/>
                </a:solidFill>
                <a:latin typeface="Tw Cen MT"/>
              </a:rPr>
              <a:t>Functional Foreman” and Task Management</a:t>
            </a:r>
            <a:endParaRPr b="0" lang="en-US" sz="27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679" name=""/>
          <p:cNvSpPr txBox="1"/>
          <p:nvPr/>
        </p:nvSpPr>
        <p:spPr>
          <a:xfrm>
            <a:off x="458280" y="1201320"/>
            <a:ext cx="6115320" cy="33750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 fontScale="96000"/>
          </a:bodyPr>
          <a:p>
            <a:pPr marL="230040" indent="-230040">
              <a:lnSpc>
                <a:spcPct val="90000"/>
              </a:lnSpc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30040" indent="-230040">
              <a:lnSpc>
                <a:spcPct val="90000"/>
              </a:lnSpc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Taylor had the idea that knowledge was authority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30040" indent="-230040">
              <a:lnSpc>
                <a:spcPct val="90000"/>
              </a:lnSpc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upervisors could not know everything about the planning and performance of the work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30040" indent="-230040">
              <a:lnSpc>
                <a:spcPct val="90000"/>
              </a:lnSpc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Functional specialists would provide assistance to workers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30040" indent="-230040">
              <a:lnSpc>
                <a:spcPct val="90000"/>
              </a:lnSpc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In retrospect, Taylor had recognized the need for staff advice and assistance from people who had special abilities or knowledge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8280" y="171360"/>
            <a:ext cx="611532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9564b"/>
                </a:solidFill>
                <a:latin typeface="Tw Cen MT"/>
              </a:rPr>
              <a:t>Taylor after Midvale</a:t>
            </a: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681" name=""/>
          <p:cNvSpPr txBox="1"/>
          <p:nvPr/>
        </p:nvSpPr>
        <p:spPr>
          <a:xfrm>
            <a:off x="458280" y="1201320"/>
            <a:ext cx="6115320" cy="33750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39760" indent="-239760"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He developed an accounting system based on the Hayes-Basley system used by RRs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39760" indent="-239760"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He became a consultant for various firms, such as Simonds Rolling Company and Bethlehem Steel.  He implemented his ideas in these and other firms with varying degrees of success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39760" indent="-239760"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He also traveled and lectured to various groups to promote his ideas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200240" y="3489480"/>
            <a:ext cx="5486400" cy="5140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Bethlehem Steel</a:t>
            </a:r>
            <a:endParaRPr b="0" lang="en-US" sz="2100" spc="-1" strike="noStrike">
              <a:solidFill>
                <a:srgbClr val="59564b"/>
              </a:solidFill>
              <a:latin typeface="Arial"/>
            </a:endParaRPr>
          </a:p>
        </p:txBody>
      </p:sp>
      <p:pic>
        <p:nvPicPr>
          <p:cNvPr id="683" name="Picture Placeholder 5" descr="bethlehem steel.gif"/>
          <p:cNvPicPr/>
          <p:nvPr/>
        </p:nvPicPr>
        <p:blipFill>
          <a:blip r:embed="rId1"/>
          <a:srcRect l="-6428" t="0" r="-6428" b="0"/>
          <a:stretch/>
        </p:blipFill>
        <p:spPr>
          <a:xfrm>
            <a:off x="1170000" y="0"/>
            <a:ext cx="5688000" cy="34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219320" y="3639960"/>
            <a:ext cx="5486400" cy="4572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Bethlehem Steel</a:t>
            </a:r>
            <a:br>
              <a:rPr sz="2100"/>
            </a:br>
            <a:endParaRPr b="0" lang="en-US" sz="2100" spc="-1" strike="noStrike">
              <a:solidFill>
                <a:srgbClr val="59564b"/>
              </a:solidFill>
              <a:latin typeface="Arial"/>
            </a:endParaRPr>
          </a:p>
        </p:txBody>
      </p:sp>
      <p:pic>
        <p:nvPicPr>
          <p:cNvPr id="685" name="Picture Placeholder 8" descr="bethlehem steel2.gif"/>
          <p:cNvPicPr/>
          <p:nvPr/>
        </p:nvPicPr>
        <p:blipFill>
          <a:blip r:embed="rId1"/>
          <a:srcRect l="-6134" t="0" r="-6134" b="0"/>
          <a:stretch/>
        </p:blipFill>
        <p:spPr>
          <a:xfrm>
            <a:off x="1170000" y="0"/>
            <a:ext cx="5688000" cy="34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9564b"/>
                </a:solidFill>
                <a:latin typeface="Tw Cen MT"/>
              </a:rPr>
              <a:t>Story of Henry Knolle and</a:t>
            </a:r>
            <a:br>
              <a:rPr sz="3000"/>
            </a:br>
            <a:r>
              <a:rPr b="0" lang="en-US" sz="3000" spc="-1" strike="noStrike">
                <a:solidFill>
                  <a:srgbClr val="59564b"/>
                </a:solidFill>
                <a:latin typeface="Tw Cen MT"/>
              </a:rPr>
              <a:t>Bethlehem Steel</a:t>
            </a:r>
            <a:endParaRPr b="0" lang="en-US" sz="3000" spc="-1" strike="noStrike">
              <a:solidFill>
                <a:srgbClr val="59564b"/>
              </a:solidFill>
              <a:latin typeface="Tw Cen MT"/>
            </a:endParaRPr>
          </a:p>
        </p:txBody>
      </p:sp>
      <p:pic>
        <p:nvPicPr>
          <p:cNvPr id="687" name="Picture 6" descr="bethlehem_steel_workers"/>
          <p:cNvPicPr/>
          <p:nvPr/>
        </p:nvPicPr>
        <p:blipFill>
          <a:blip r:embed="rId1"/>
          <a:srcRect l="0" t="-41943" r="0" b="-41943"/>
          <a:stretch/>
        </p:blipFill>
        <p:spPr>
          <a:xfrm>
            <a:off x="457200" y="1193760"/>
            <a:ext cx="2914560" cy="3432240"/>
          </a:xfrm>
          <a:prstGeom prst="rect">
            <a:avLst/>
          </a:prstGeom>
          <a:ln w="0">
            <a:noFill/>
          </a:ln>
        </p:spPr>
      </p:pic>
      <p:sp>
        <p:nvSpPr>
          <p:cNvPr id="688" name=""/>
          <p:cNvSpPr txBox="1"/>
          <p:nvPr/>
        </p:nvSpPr>
        <p:spPr>
          <a:xfrm>
            <a:off x="3633840" y="1193760"/>
            <a:ext cx="2914560" cy="34322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 fontScale="94000"/>
          </a:bodyPr>
          <a:p>
            <a:pPr marL="225360" indent="-225360">
              <a:lnSpc>
                <a:spcPct val="80000"/>
              </a:lnSpc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w Cen MT"/>
              </a:rPr>
              <a:t>Taylor conducted his famous pig-iron experiments at Bethlehem Steel.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marL="225360" indent="-225360">
              <a:lnSpc>
                <a:spcPct val="80000"/>
              </a:lnSpc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w Cen MT"/>
              </a:rPr>
              <a:t>James Gillespie and Hartley Wolle, Taylor’s assistants, established an incentive for loading pig iron at Bethlehem Steel.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marL="225360" indent="-225360">
              <a:lnSpc>
                <a:spcPct val="80000"/>
              </a:lnSpc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w Cen MT"/>
              </a:rPr>
              <a:t>Workers refused to work by the piece and were discharged.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marL="225360" indent="-225360">
              <a:lnSpc>
                <a:spcPct val="80000"/>
              </a:lnSpc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w Cen MT"/>
              </a:rPr>
              <a:t>Taylor’s story of the experiments centered on Henry Knolle although three men participated.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9564b"/>
                </a:solidFill>
                <a:latin typeface="Tw Cen MT"/>
              </a:rPr>
              <a:t>Henry Knolle (also Noll)</a:t>
            </a: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690" name=""/>
          <p:cNvSpPr txBox="1"/>
          <p:nvPr/>
        </p:nvSpPr>
        <p:spPr>
          <a:xfrm>
            <a:off x="457200" y="1193760"/>
            <a:ext cx="2914560" cy="34322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 fontScale="92000"/>
          </a:bodyPr>
          <a:p>
            <a:pPr marL="220320" indent="-220320">
              <a:lnSpc>
                <a:spcPct val="70000"/>
              </a:lnSpc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Stood 5 feet 7 inches tall and weighed 135 pounds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220320" indent="-220320">
              <a:lnSpc>
                <a:spcPct val="70000"/>
              </a:lnSpc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He came down through history as “Schmidt” in the embellished recollections of the pig iron experiments at Bethlehem Steel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220320" indent="-220320">
              <a:lnSpc>
                <a:spcPct val="70000"/>
              </a:lnSpc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He averaged between $1.35 and $1.70 per day (average rate was $1.15 per day)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220320" indent="-220320">
              <a:lnSpc>
                <a:spcPct val="70000"/>
              </a:lnSpc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In the story, he was the only worker to persevere throughout the pig-iron loading – he was a “First Class Man.”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691" name="Picture 6" descr="Henry_knolle"/>
          <p:cNvPicPr/>
          <p:nvPr/>
        </p:nvPicPr>
        <p:blipFill>
          <a:blip r:embed="rId1"/>
          <a:srcRect l="-14225" t="0" r="-14225" b="0"/>
          <a:stretch/>
        </p:blipFill>
        <p:spPr>
          <a:xfrm>
            <a:off x="3633840" y="1193760"/>
            <a:ext cx="2914560" cy="34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9564b"/>
                </a:solidFill>
                <a:latin typeface="Tw Cen MT"/>
              </a:rPr>
              <a:t>Henry Knolle’s Motivation</a:t>
            </a: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pic>
        <p:nvPicPr>
          <p:cNvPr id="693" name="Picture 6" descr="knolles_house"/>
          <p:cNvPicPr/>
          <p:nvPr/>
        </p:nvPicPr>
        <p:blipFill>
          <a:blip r:embed="rId1"/>
          <a:srcRect l="-4891" t="0" r="-4891" b="0"/>
          <a:stretch/>
        </p:blipFill>
        <p:spPr>
          <a:xfrm>
            <a:off x="457200" y="1193760"/>
            <a:ext cx="2914560" cy="3432240"/>
          </a:xfrm>
          <a:prstGeom prst="rect">
            <a:avLst/>
          </a:prstGeom>
          <a:ln w="0">
            <a:noFill/>
          </a:ln>
        </p:spPr>
      </p:pic>
      <p:sp>
        <p:nvSpPr>
          <p:cNvPr id="694" name=""/>
          <p:cNvSpPr txBox="1"/>
          <p:nvPr/>
        </p:nvSpPr>
        <p:spPr>
          <a:xfrm>
            <a:off x="3633840" y="1193760"/>
            <a:ext cx="2914560" cy="34322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39760" indent="-239760">
              <a:lnSpc>
                <a:spcPct val="90000"/>
              </a:lnSpc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Knolle needed money to build a house so he could get married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239760" indent="-239760">
              <a:lnSpc>
                <a:spcPct val="90000"/>
              </a:lnSpc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He would work on the house before work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239760" indent="-239760">
              <a:lnSpc>
                <a:spcPct val="90000"/>
              </a:lnSpc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He would load, on average, 47 ½ tons of pig-iron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239760" indent="-239760">
              <a:lnSpc>
                <a:spcPct val="90000"/>
              </a:lnSpc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He would return to work on the house until dark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5" name="Text Box 7"/>
          <p:cNvSpPr/>
          <p:nvPr/>
        </p:nvSpPr>
        <p:spPr>
          <a:xfrm>
            <a:off x="743040" y="4633920"/>
            <a:ext cx="2400120" cy="2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000" spc="-1" strike="noStrike">
                <a:solidFill>
                  <a:srgbClr val="59564b"/>
                </a:solidFill>
                <a:latin typeface="Tw Cen MT"/>
              </a:rPr>
              <a:t>Knolle’s House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/>
          </p:nvPr>
        </p:nvSpPr>
        <p:spPr>
          <a:xfrm>
            <a:off x="1028880" y="2058480"/>
            <a:ext cx="5341680" cy="1256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4b"/>
                </a:solidFill>
                <a:latin typeface="Tw Cen MT"/>
              </a:rPr>
              <a:t>The Advent of Scientific Management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title"/>
          </p:nvPr>
        </p:nvSpPr>
        <p:spPr>
          <a:xfrm>
            <a:off x="1028520" y="1201680"/>
            <a:ext cx="5715000" cy="743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Tw Cen MT"/>
              </a:rPr>
              <a:t>Chapter Seven</a:t>
            </a:r>
            <a:r>
              <a:rPr b="0" lang="en-US" sz="3300" spc="-1" strike="noStrike">
                <a:solidFill>
                  <a:srgbClr val="ffffff"/>
                </a:solidFill>
                <a:latin typeface="Tw Cen MT"/>
              </a:rPr>
              <a:t>	</a:t>
            </a: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1200240" y="3489480"/>
            <a:ext cx="5486400" cy="5140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Henry Knolle and his Wife</a:t>
            </a:r>
            <a:endParaRPr b="0" lang="en-US" sz="2100" spc="-1" strike="noStrike">
              <a:solidFill>
                <a:srgbClr val="59564b"/>
              </a:solidFill>
              <a:latin typeface="Arial"/>
            </a:endParaRPr>
          </a:p>
        </p:txBody>
      </p:sp>
      <p:pic>
        <p:nvPicPr>
          <p:cNvPr id="697" name="Picture 6" descr="Henry_Knolle_wife"/>
          <p:cNvPicPr/>
          <p:nvPr/>
        </p:nvPicPr>
        <p:blipFill>
          <a:blip r:embed="rId1"/>
          <a:srcRect l="-74689" t="0" r="-74689" b="0"/>
          <a:stretch/>
        </p:blipFill>
        <p:spPr>
          <a:xfrm>
            <a:off x="1170000" y="0"/>
            <a:ext cx="5688000" cy="343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9564b"/>
                </a:solidFill>
                <a:latin typeface="Tw Cen MT"/>
              </a:rPr>
              <a:t>Pig Iron Experiments</a:t>
            </a: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pic>
        <p:nvPicPr>
          <p:cNvPr id="699" name="Picture 6" descr="men_time_mgt"/>
          <p:cNvPicPr/>
          <p:nvPr/>
        </p:nvPicPr>
        <p:blipFill>
          <a:blip r:embed="rId1"/>
          <a:srcRect l="0" t="-37425" r="0" b="-37425"/>
          <a:stretch/>
        </p:blipFill>
        <p:spPr>
          <a:xfrm>
            <a:off x="457200" y="1193760"/>
            <a:ext cx="2914560" cy="3432240"/>
          </a:xfrm>
          <a:prstGeom prst="rect">
            <a:avLst/>
          </a:prstGeom>
          <a:ln w="0">
            <a:noFill/>
          </a:ln>
        </p:spPr>
      </p:pic>
      <p:sp>
        <p:nvSpPr>
          <p:cNvPr id="700" name=""/>
          <p:cNvSpPr txBox="1"/>
          <p:nvPr/>
        </p:nvSpPr>
        <p:spPr>
          <a:xfrm>
            <a:off x="3633840" y="1193760"/>
            <a:ext cx="2914560" cy="34322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 fontScale="94000"/>
          </a:bodyPr>
          <a:p>
            <a:pPr marL="225360" indent="-225360"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Results of experiments were less than ideal even though Taylor labeled them as successful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225360" indent="-225360"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James Gillespie and Hartley Wolle were not careful in their time study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225360" indent="-225360"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Taylor did not use his differential piece rate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225360" indent="-225360"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Taylor set the rate of payment arbitrarily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1" name="Text Box 7"/>
          <p:cNvSpPr/>
          <p:nvPr/>
        </p:nvSpPr>
        <p:spPr>
          <a:xfrm>
            <a:off x="457200" y="4098960"/>
            <a:ext cx="2685960" cy="2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000" spc="-1" strike="noStrike">
                <a:solidFill>
                  <a:srgbClr val="59564b"/>
                </a:solidFill>
                <a:latin typeface="Tw Cen MT"/>
              </a:rPr>
              <a:t>Men who helped Taylor with time stud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8280" y="171360"/>
            <a:ext cx="611532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9564b"/>
                </a:solidFill>
                <a:latin typeface="Tw Cen MT"/>
              </a:rPr>
              <a:t>Pig Iron Experiments</a:t>
            </a: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703" name=""/>
          <p:cNvSpPr txBox="1"/>
          <p:nvPr/>
        </p:nvSpPr>
        <p:spPr>
          <a:xfrm>
            <a:off x="458280" y="1201320"/>
            <a:ext cx="6115320" cy="33750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39760" indent="-239760"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Results: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479520" indent="-204840">
              <a:spcBef>
                <a:spcPts val="414"/>
              </a:spcBef>
              <a:buClr>
                <a:srgbClr val="99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Yard labor costs fell from $.072 per ton under day wages to $.033 per ton under piece rate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479520" indent="-204840">
              <a:spcBef>
                <a:spcPts val="414"/>
              </a:spcBef>
              <a:buClr>
                <a:srgbClr val="99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Workers averaged 60 percent more in wages than they had befor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9564b"/>
                </a:solidFill>
                <a:latin typeface="Tw Cen MT"/>
              </a:rPr>
              <a:t>Who prepared the “pig-tale?”</a:t>
            </a: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705" name=""/>
          <p:cNvSpPr txBox="1"/>
          <p:nvPr/>
        </p:nvSpPr>
        <p:spPr>
          <a:xfrm>
            <a:off x="457200" y="1193760"/>
            <a:ext cx="2914560" cy="34322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 fontScale="98000"/>
          </a:bodyPr>
          <a:p>
            <a:pPr marL="234720" indent="-234720">
              <a:lnSpc>
                <a:spcPct val="80000"/>
              </a:lnSpc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In “Taylor’s Pig-Tale: A Historical Analysis of Frederick W. Taylor’s Pig-Iron Experiment,” authors Charles D. Wrege and Amadeo G. Perroni, state that Taylor embellished the report.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234720" indent="-234720">
              <a:lnSpc>
                <a:spcPct val="80000"/>
              </a:lnSpc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Later, Wrege and R. Greenwood wrote that the “Pig-Tale” was “prepared by Taylor’s assistant, Morris L. Cooke.”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234720" indent="-234720">
              <a:lnSpc>
                <a:spcPct val="80000"/>
              </a:lnSpc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The mystery remains: the penmanship was Cooke’s, but were the words Cooke’s or Taylor’s?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706" name="Picture 6" descr="morris_cooke"/>
          <p:cNvPicPr/>
          <p:nvPr/>
        </p:nvPicPr>
        <p:blipFill>
          <a:blip r:embed="rId1"/>
          <a:srcRect l="-8356" t="0" r="-8356" b="0"/>
          <a:stretch/>
        </p:blipFill>
        <p:spPr>
          <a:xfrm>
            <a:off x="3633840" y="1193760"/>
            <a:ext cx="2914560" cy="3432240"/>
          </a:xfrm>
          <a:prstGeom prst="rect">
            <a:avLst/>
          </a:prstGeom>
          <a:ln w="0">
            <a:noFill/>
          </a:ln>
        </p:spPr>
      </p:pic>
      <p:sp>
        <p:nvSpPr>
          <p:cNvPr id="707" name="Text Box 7"/>
          <p:cNvSpPr/>
          <p:nvPr/>
        </p:nvSpPr>
        <p:spPr>
          <a:xfrm>
            <a:off x="4172040" y="4576680"/>
            <a:ext cx="2114640" cy="2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000" spc="-1" strike="noStrike">
                <a:solidFill>
                  <a:srgbClr val="59564b"/>
                </a:solidFill>
                <a:latin typeface="Tw Cen MT"/>
              </a:rPr>
              <a:t>Morris L. Cooke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8280" y="171360"/>
            <a:ext cx="611532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9564b"/>
                </a:solidFill>
                <a:latin typeface="Tw Cen MT"/>
              </a:rPr>
              <a:t>Eastern Rate Case - 1910</a:t>
            </a: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709" name=""/>
          <p:cNvSpPr txBox="1"/>
          <p:nvPr/>
        </p:nvSpPr>
        <p:spPr>
          <a:xfrm>
            <a:off x="458280" y="1201320"/>
            <a:ext cx="6115320" cy="33750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 fontScale="97000"/>
          </a:bodyPr>
          <a:p>
            <a:pPr marL="232560" indent="-232560">
              <a:lnSpc>
                <a:spcPct val="90000"/>
              </a:lnSpc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In this case before the U.S. Interstate Commerce Commission, </a:t>
            </a:r>
            <a:r>
              <a:rPr b="0" lang="en-US" sz="2200" spc="-1" strike="noStrike" u="sng">
                <a:solidFill>
                  <a:srgbClr val="ef8e1c"/>
                </a:solidFill>
                <a:uFillTx/>
                <a:latin typeface="Tw Cen MT"/>
                <a:hlinkClick r:id="rId1"/>
              </a:rPr>
              <a:t>Louis Brandeis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, attorney for the shippers, used individuals to testify that the railroads did not need to increase rates if they would adopt known management improvements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32560" indent="-232560">
              <a:lnSpc>
                <a:spcPct val="90000"/>
              </a:lnSpc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Brandeis coined the phrase “Scientific Management” to describe Taylor’s ideas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32560" indent="-232560">
              <a:lnSpc>
                <a:spcPct val="90000"/>
              </a:lnSpc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This brought a great deal of attention, some unwanted, to Taylor and his colleagues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8280" y="171360"/>
            <a:ext cx="611532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9564b"/>
                </a:solidFill>
                <a:latin typeface="Tw Cen MT"/>
              </a:rPr>
              <a:t>Watertown - 1911</a:t>
            </a: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711" name=""/>
          <p:cNvSpPr txBox="1"/>
          <p:nvPr/>
        </p:nvSpPr>
        <p:spPr>
          <a:xfrm>
            <a:off x="458280" y="1201320"/>
            <a:ext cx="6115320" cy="33750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39760" indent="-239760"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aylor’s ideas were to be implemented at the federal arsenals at Watertown (Massachusetts) and Rock Island (Illinois)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39760" indent="-239760"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Representatives of the machinists’ union told the workers to resist and a strike occurred at Watertown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39760" indent="-239760"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trike lasted one week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8280" y="171360"/>
            <a:ext cx="611532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9564b"/>
                </a:solidFill>
                <a:latin typeface="Tw Cen MT"/>
              </a:rPr>
              <a:t>Congressional Hearings </a:t>
            </a:r>
            <a:br>
              <a:rPr sz="2700"/>
            </a:br>
            <a:r>
              <a:rPr b="0" lang="en-US" sz="2700" spc="-1" strike="noStrike">
                <a:solidFill>
                  <a:srgbClr val="59564b"/>
                </a:solidFill>
                <a:latin typeface="Tw Cen MT"/>
              </a:rPr>
              <a:t>Oct. 1911  - Feb. 1912</a:t>
            </a:r>
            <a:endParaRPr b="0" lang="en-US" sz="27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713" name=""/>
          <p:cNvSpPr txBox="1"/>
          <p:nvPr/>
        </p:nvSpPr>
        <p:spPr>
          <a:xfrm>
            <a:off x="458280" y="1201320"/>
            <a:ext cx="6115320" cy="33750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39760" indent="-239760">
              <a:lnSpc>
                <a:spcPct val="90000"/>
              </a:lnSpc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However, congressional representatives from the two districts asked for an investigation of the Taylor and “other efficiency systems.”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39760" indent="-239760">
              <a:lnSpc>
                <a:spcPct val="90000"/>
              </a:lnSpc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No evidence was found that there were abuses under scientific management and no need for remedial legislation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39760" indent="-239760">
              <a:lnSpc>
                <a:spcPct val="90000"/>
              </a:lnSpc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Despite findings, time-measuring devices and incentive pay were prohibited in any military agency and in army and navy appropriation bills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9564b"/>
                </a:solidFill>
                <a:latin typeface="Tw Cen MT"/>
              </a:rPr>
              <a:t>Mental Revolution</a:t>
            </a: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715" name=""/>
          <p:cNvSpPr txBox="1"/>
          <p:nvPr/>
        </p:nvSpPr>
        <p:spPr>
          <a:xfrm>
            <a:off x="457200" y="1193760"/>
            <a:ext cx="2914560" cy="34322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 fontScale="94000"/>
          </a:bodyPr>
          <a:p>
            <a:pPr marL="225360" indent="-225360">
              <a:lnSpc>
                <a:spcPct val="90000"/>
              </a:lnSpc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Taylor described his philosophy that labor and management had a “mutuality of interests” and needed to work together in his Congressional testimony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225360" indent="-225360">
              <a:lnSpc>
                <a:spcPct val="90000"/>
              </a:lnSpc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Management, Workers, and Owners must work together to share to make the pie bigger – not get a bigger piece to the detriment of each other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716" name="Picture 6" descr="taylor_mentalrev"/>
          <p:cNvPicPr/>
          <p:nvPr/>
        </p:nvPicPr>
        <p:blipFill>
          <a:blip r:embed="rId1"/>
          <a:srcRect l="0" t="-19522" r="0" b="-19522"/>
          <a:stretch/>
        </p:blipFill>
        <p:spPr>
          <a:xfrm>
            <a:off x="3633840" y="1193760"/>
            <a:ext cx="2914560" cy="343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9564b"/>
                </a:solidFill>
                <a:latin typeface="Tw Cen MT"/>
              </a:rPr>
              <a:t>Mental Revolution</a:t>
            </a: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pic>
        <p:nvPicPr>
          <p:cNvPr id="718" name="Picture 6" descr="taylor_mentalrev_2"/>
          <p:cNvPicPr/>
          <p:nvPr/>
        </p:nvPicPr>
        <p:blipFill>
          <a:blip r:embed="rId1"/>
          <a:srcRect l="0" t="-27664" r="0" b="-27664"/>
          <a:stretch/>
        </p:blipFill>
        <p:spPr>
          <a:xfrm>
            <a:off x="457200" y="1193760"/>
            <a:ext cx="2914560" cy="3432240"/>
          </a:xfrm>
          <a:prstGeom prst="rect">
            <a:avLst/>
          </a:prstGeom>
          <a:ln w="0">
            <a:noFill/>
          </a:ln>
        </p:spPr>
      </p:pic>
      <p:sp>
        <p:nvSpPr>
          <p:cNvPr id="719" name=""/>
          <p:cNvSpPr txBox="1"/>
          <p:nvPr/>
        </p:nvSpPr>
        <p:spPr>
          <a:xfrm>
            <a:off x="3633840" y="1193760"/>
            <a:ext cx="2914560" cy="34322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39760" indent="-239760"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This “revolution” emphasized the need of both labor and management to change their attitudes and work together, otherwise scientific management could not exist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239760" indent="-239760"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Notice that unions were not a part of his theory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8280" y="171360"/>
            <a:ext cx="611532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9564b"/>
                </a:solidFill>
                <a:latin typeface="Tw Cen MT"/>
              </a:rPr>
              <a:t>Other Ideas of Taylor</a:t>
            </a: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721" name=""/>
          <p:cNvSpPr txBox="1"/>
          <p:nvPr/>
        </p:nvSpPr>
        <p:spPr>
          <a:xfrm>
            <a:off x="458280" y="1201320"/>
            <a:ext cx="6115320" cy="33750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39760" indent="-239760"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Human factor – “systems” were not enough…there must be a good relationship between workers and managers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39760" indent="-239760"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Resistance to change – this is to be expected, but with time and explanations, people would see the benefits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39760" indent="-239760"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cientific management at every step of the way has been an evolution, not a theory.” (Taylor 1915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8280" y="171360"/>
            <a:ext cx="611532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0" lang="en-US" sz="3000" spc="-1" strike="noStrike">
                <a:solidFill>
                  <a:srgbClr val="59564b"/>
                </a:solidFill>
                <a:latin typeface="Tw Cen MT"/>
              </a:rPr>
              <a:t>Frederick Winslow Taylor (1856-1915)</a:t>
            </a:r>
            <a:endParaRPr b="0" lang="en-US" sz="3000" spc="-1" strike="noStrike">
              <a:solidFill>
                <a:srgbClr val="59564b"/>
              </a:solidFill>
              <a:latin typeface="Tw Cen MT"/>
            </a:endParaRPr>
          </a:p>
        </p:txBody>
      </p:sp>
      <p:pic>
        <p:nvPicPr>
          <p:cNvPr id="626" name="Picture 6" descr="taylor"/>
          <p:cNvPicPr/>
          <p:nvPr/>
        </p:nvPicPr>
        <p:blipFill>
          <a:blip r:embed="rId1"/>
          <a:srcRect l="-14345" t="0" r="-14345" b="0"/>
          <a:stretch/>
        </p:blipFill>
        <p:spPr>
          <a:xfrm>
            <a:off x="458640" y="1201680"/>
            <a:ext cx="6115320" cy="3375000"/>
          </a:xfrm>
          <a:prstGeom prst="rect">
            <a:avLst/>
          </a:prstGeom>
          <a:ln w="0">
            <a:noFill/>
          </a:ln>
        </p:spPr>
      </p:pic>
      <p:sp>
        <p:nvSpPr>
          <p:cNvPr id="627" name="Text Box 7"/>
          <p:cNvSpPr/>
          <p:nvPr/>
        </p:nvSpPr>
        <p:spPr>
          <a:xfrm>
            <a:off x="2057400" y="4191120"/>
            <a:ext cx="342900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/>
          </p:nvPr>
        </p:nvSpPr>
        <p:spPr>
          <a:xfrm>
            <a:off x="1200240" y="4117680"/>
            <a:ext cx="5486400" cy="5158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aylor’s wealth was increased from his various paten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title"/>
          </p:nvPr>
        </p:nvSpPr>
        <p:spPr>
          <a:xfrm>
            <a:off x="1200240" y="3489480"/>
            <a:ext cx="5486400" cy="5140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Taylor’s Patents</a:t>
            </a:r>
            <a:endParaRPr b="0" lang="en-US" sz="2100" spc="-1" strike="noStrike">
              <a:solidFill>
                <a:srgbClr val="59564b"/>
              </a:solidFill>
              <a:latin typeface="Arial"/>
            </a:endParaRPr>
          </a:p>
        </p:txBody>
      </p:sp>
      <p:pic>
        <p:nvPicPr>
          <p:cNvPr id="724" name="Content Placeholder 6" descr="steam hammer.gif"/>
          <p:cNvPicPr/>
          <p:nvPr/>
        </p:nvPicPr>
        <p:blipFill>
          <a:blip r:embed="rId1"/>
          <a:srcRect l="-76435" t="0" r="-76435" b="0"/>
          <a:stretch/>
        </p:blipFill>
        <p:spPr>
          <a:xfrm>
            <a:off x="1170000" y="0"/>
            <a:ext cx="5688000" cy="3430440"/>
          </a:xfrm>
          <a:prstGeom prst="rect">
            <a:avLst/>
          </a:prstGeom>
          <a:ln w="0">
            <a:noFill/>
          </a:ln>
        </p:spPr>
      </p:pic>
      <p:sp>
        <p:nvSpPr>
          <p:cNvPr id="725" name="Text Box 5"/>
          <p:cNvSpPr/>
          <p:nvPr/>
        </p:nvSpPr>
        <p:spPr>
          <a:xfrm>
            <a:off x="5181480" y="2954160"/>
            <a:ext cx="16765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9564b"/>
                </a:solidFill>
                <a:latin typeface="Tahoma"/>
              </a:rPr>
              <a:t>Drawing of “Steam Hammer”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/>
          </p:nvPr>
        </p:nvSpPr>
        <p:spPr>
          <a:xfrm>
            <a:off x="1200240" y="4117680"/>
            <a:ext cx="5486400" cy="5158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ual Press…notice the man standing next to the machine to depict the size of the p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title"/>
          </p:nvPr>
        </p:nvSpPr>
        <p:spPr>
          <a:xfrm>
            <a:off x="1200240" y="3489480"/>
            <a:ext cx="5486400" cy="5140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Taylor’s Patents</a:t>
            </a:r>
            <a:endParaRPr b="0" lang="en-US" sz="2100" spc="-1" strike="noStrike">
              <a:solidFill>
                <a:srgbClr val="59564b"/>
              </a:solidFill>
              <a:latin typeface="Arial"/>
            </a:endParaRPr>
          </a:p>
        </p:txBody>
      </p:sp>
      <p:pic>
        <p:nvPicPr>
          <p:cNvPr id="728" name="Picture Placeholder 5" descr="taylor press.gif"/>
          <p:cNvPicPr/>
          <p:nvPr/>
        </p:nvPicPr>
        <p:blipFill>
          <a:blip r:embed="rId1"/>
          <a:srcRect l="-5950" t="0" r="-5950" b="0"/>
          <a:stretch/>
        </p:blipFill>
        <p:spPr>
          <a:xfrm>
            <a:off x="1170000" y="0"/>
            <a:ext cx="5688000" cy="343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399600" y="204480"/>
            <a:ext cx="6115320" cy="6541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9564b"/>
                </a:solidFill>
                <a:latin typeface="Tw Cen MT"/>
              </a:rPr>
              <a:t>Taylor’s Patents</a:t>
            </a: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315800"/>
            <a:ext cx="2914560" cy="479160"/>
          </a:xfrm>
          <a:prstGeom prst="rect">
            <a:avLst/>
          </a:prstGeom>
          <a:solidFill>
            <a:srgbClr val="efab16"/>
          </a:solidFill>
          <a:ln w="0">
            <a:noFill/>
          </a:ln>
        </p:spPr>
        <p:txBody>
          <a:bodyPr lIns="68760" rIns="68760" tIns="34200" bIns="342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Tw Cen MT"/>
              </a:rPr>
              <a:t>Two-Handled Golf Club</a:t>
            </a:r>
            <a:endParaRPr b="0" lang="en-US" sz="15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600000" y="1315800"/>
            <a:ext cx="2914920" cy="479160"/>
          </a:xfrm>
          <a:prstGeom prst="rect">
            <a:avLst/>
          </a:prstGeom>
          <a:solidFill>
            <a:srgbClr val="35aca2"/>
          </a:solidFill>
          <a:ln w="0">
            <a:noFill/>
          </a:ln>
        </p:spPr>
        <p:txBody>
          <a:bodyPr lIns="68760" rIns="68760" tIns="34200" bIns="34200" anchor="ctr">
            <a:normAutofit fontScale="90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Tw Cen MT"/>
              </a:rPr>
              <a:t>Tennis Racket with Curved Handle</a:t>
            </a:r>
            <a:endParaRPr b="0" lang="en-US" sz="15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732" name="Content Placeholder 10" descr="patent1.gif"/>
          <p:cNvPicPr/>
          <p:nvPr/>
        </p:nvPicPr>
        <p:blipFill>
          <a:blip r:embed="rId1"/>
          <a:srcRect l="-30611" t="0" r="-30611" b="0"/>
          <a:stretch/>
        </p:blipFill>
        <p:spPr>
          <a:xfrm>
            <a:off x="457200" y="1830240"/>
            <a:ext cx="2914560" cy="2689200"/>
          </a:xfrm>
          <a:prstGeom prst="rect">
            <a:avLst/>
          </a:prstGeom>
          <a:ln w="0">
            <a:noFill/>
          </a:ln>
        </p:spPr>
      </p:pic>
      <p:pic>
        <p:nvPicPr>
          <p:cNvPr id="733" name="Content Placeholder 11" descr="patent2.gif"/>
          <p:cNvPicPr/>
          <p:nvPr/>
        </p:nvPicPr>
        <p:blipFill>
          <a:blip r:embed="rId2"/>
          <a:srcRect l="-29577" t="0" r="-29577" b="0"/>
          <a:stretch/>
        </p:blipFill>
        <p:spPr>
          <a:xfrm>
            <a:off x="3600360" y="1830240"/>
            <a:ext cx="29149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9564b"/>
                </a:solidFill>
                <a:latin typeface="Tw Cen MT"/>
              </a:rPr>
              <a:t>Personal Information on Taylor</a:t>
            </a: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pic>
        <p:nvPicPr>
          <p:cNvPr id="735" name="Picture 7" descr="fred_taylor_crossdresser"/>
          <p:cNvPicPr/>
          <p:nvPr/>
        </p:nvPicPr>
        <p:blipFill>
          <a:blip r:embed="rId1"/>
          <a:srcRect l="-13743" t="0" r="-13743" b="0"/>
          <a:stretch/>
        </p:blipFill>
        <p:spPr>
          <a:xfrm>
            <a:off x="457200" y="1193760"/>
            <a:ext cx="2914560" cy="3432240"/>
          </a:xfrm>
          <a:prstGeom prst="rect">
            <a:avLst/>
          </a:prstGeom>
          <a:ln w="0">
            <a:noFill/>
          </a:ln>
        </p:spPr>
      </p:pic>
      <p:sp>
        <p:nvSpPr>
          <p:cNvPr id="736" name=""/>
          <p:cNvSpPr txBox="1"/>
          <p:nvPr/>
        </p:nvSpPr>
        <p:spPr>
          <a:xfrm>
            <a:off x="3633840" y="1193760"/>
            <a:ext cx="2914560" cy="34322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 fontScale="94000"/>
          </a:bodyPr>
          <a:p>
            <a:pPr marL="225360" indent="-225360"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Taylor as a cross-dresser: during a theatrical performance by an all-male club of which he was a member, he took the role of “Miss Lillian.”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225360" indent="-225360"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Taylor said that there were only two places so sacred that no one should “swear”…the home and the golf course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1200240" y="3489480"/>
            <a:ext cx="5486400" cy="5140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Taylor’s love of golf led to soil and grass studies</a:t>
            </a:r>
            <a:endParaRPr b="0" lang="en-US" sz="1900" spc="-1" strike="noStrike">
              <a:solidFill>
                <a:srgbClr val="59564b"/>
              </a:solidFill>
              <a:latin typeface="Arial"/>
            </a:endParaRPr>
          </a:p>
        </p:txBody>
      </p:sp>
      <p:pic>
        <p:nvPicPr>
          <p:cNvPr id="738" name="Picture Placeholder 5" descr="golf soil.jpg"/>
          <p:cNvPicPr/>
          <p:nvPr/>
        </p:nvPicPr>
        <p:blipFill>
          <a:blip r:embed="rId1"/>
          <a:srcRect l="-19992" t="0" r="-19992" b="0"/>
          <a:stretch/>
        </p:blipFill>
        <p:spPr>
          <a:xfrm>
            <a:off x="1170000" y="0"/>
            <a:ext cx="5688000" cy="34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9564b"/>
                </a:solidFill>
                <a:latin typeface="Tw Cen MT"/>
              </a:rPr>
              <a:t>Boxly - Taylor’s Home</a:t>
            </a: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pic>
        <p:nvPicPr>
          <p:cNvPr id="740" name="Content Placeholder 7" descr="boxly1.gif"/>
          <p:cNvPicPr/>
          <p:nvPr/>
        </p:nvPicPr>
        <p:blipFill>
          <a:blip r:embed="rId1"/>
          <a:srcRect l="0" t="-35853" r="0" b="-35853"/>
          <a:stretch/>
        </p:blipFill>
        <p:spPr>
          <a:xfrm>
            <a:off x="457200" y="1193760"/>
            <a:ext cx="2914560" cy="3432240"/>
          </a:xfrm>
          <a:prstGeom prst="rect">
            <a:avLst/>
          </a:prstGeom>
          <a:ln w="0">
            <a:noFill/>
          </a:ln>
        </p:spPr>
      </p:pic>
      <p:pic>
        <p:nvPicPr>
          <p:cNvPr id="741" name="Content Placeholder 8" descr="boxly2.gif"/>
          <p:cNvPicPr/>
          <p:nvPr/>
        </p:nvPicPr>
        <p:blipFill>
          <a:blip r:embed="rId2"/>
          <a:srcRect l="0" t="-37513" r="0" b="-37513"/>
          <a:stretch/>
        </p:blipFill>
        <p:spPr>
          <a:xfrm>
            <a:off x="3633840" y="1193760"/>
            <a:ext cx="2914560" cy="3432240"/>
          </a:xfrm>
          <a:prstGeom prst="rect">
            <a:avLst/>
          </a:prstGeom>
          <a:ln w="0">
            <a:noFill/>
          </a:ln>
        </p:spPr>
      </p:pic>
      <p:sp>
        <p:nvSpPr>
          <p:cNvPr id="742" name="Text Box 7"/>
          <p:cNvSpPr/>
          <p:nvPr/>
        </p:nvSpPr>
        <p:spPr>
          <a:xfrm>
            <a:off x="3962520" y="4630680"/>
            <a:ext cx="25714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900" spc="-1" strike="noStrike">
                <a:solidFill>
                  <a:srgbClr val="59564b"/>
                </a:solidFill>
                <a:latin typeface="Tw Cen MT"/>
              </a:rPr>
              <a:t>Recreated room with actual furnishings from Taylor’s home located at Steven’s Institute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200240" y="3489480"/>
            <a:ext cx="5486400" cy="5140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Taylor’s Wife Louise</a:t>
            </a:r>
            <a:endParaRPr b="0" lang="en-US" sz="2100" spc="-1" strike="noStrike">
              <a:solidFill>
                <a:srgbClr val="59564b"/>
              </a:solidFill>
              <a:latin typeface="Arial"/>
            </a:endParaRPr>
          </a:p>
        </p:txBody>
      </p:sp>
      <p:pic>
        <p:nvPicPr>
          <p:cNvPr id="744" name="Picture 7" descr="taylors_wife"/>
          <p:cNvPicPr/>
          <p:nvPr/>
        </p:nvPicPr>
        <p:blipFill>
          <a:blip r:embed="rId1"/>
          <a:srcRect l="-66893" t="0" r="-66893" b="0"/>
          <a:stretch/>
        </p:blipFill>
        <p:spPr>
          <a:xfrm>
            <a:off x="1170000" y="0"/>
            <a:ext cx="5688000" cy="34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9564b"/>
                </a:solidFill>
                <a:latin typeface="Tw Cen MT"/>
              </a:rPr>
              <a:t>Taylor’s Family</a:t>
            </a: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pic>
        <p:nvPicPr>
          <p:cNvPr id="746" name="Picture 7" descr="taylors_family"/>
          <p:cNvPicPr/>
          <p:nvPr/>
        </p:nvPicPr>
        <p:blipFill>
          <a:blip r:embed="rId1"/>
          <a:srcRect l="0" t="-38424" r="0" b="-38424"/>
          <a:stretch/>
        </p:blipFill>
        <p:spPr>
          <a:xfrm>
            <a:off x="457200" y="1193760"/>
            <a:ext cx="2914560" cy="3432240"/>
          </a:xfrm>
          <a:prstGeom prst="rect">
            <a:avLst/>
          </a:prstGeom>
          <a:ln w="0">
            <a:noFill/>
          </a:ln>
        </p:spPr>
      </p:pic>
      <p:sp>
        <p:nvSpPr>
          <p:cNvPr id="747" name=""/>
          <p:cNvSpPr txBox="1"/>
          <p:nvPr/>
        </p:nvSpPr>
        <p:spPr>
          <a:xfrm>
            <a:off x="3633840" y="1193760"/>
            <a:ext cx="2914560" cy="34322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39760" indent="-239760"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The Taylor’s did not have any children of their own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39760" indent="-239760"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They adopted their friends’ three younger children after the parents’ sudden death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9564b"/>
                </a:solidFill>
                <a:latin typeface="Tw Cen MT"/>
              </a:rPr>
              <a:t>Taylor’s Death</a:t>
            </a: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pic>
        <p:nvPicPr>
          <p:cNvPr id="749" name="Picture 6" descr="taylors_grave"/>
          <p:cNvPicPr/>
          <p:nvPr/>
        </p:nvPicPr>
        <p:blipFill>
          <a:blip r:embed="rId1"/>
          <a:srcRect l="0" t="-35890" r="0" b="-35890"/>
          <a:stretch/>
        </p:blipFill>
        <p:spPr>
          <a:xfrm>
            <a:off x="457200" y="1193760"/>
            <a:ext cx="2914560" cy="3432240"/>
          </a:xfrm>
          <a:prstGeom prst="rect">
            <a:avLst/>
          </a:prstGeom>
          <a:ln w="0">
            <a:noFill/>
          </a:ln>
        </p:spPr>
      </p:pic>
      <p:sp>
        <p:nvSpPr>
          <p:cNvPr id="750" name=""/>
          <p:cNvSpPr txBox="1"/>
          <p:nvPr/>
        </p:nvSpPr>
        <p:spPr>
          <a:xfrm>
            <a:off x="3633840" y="1193760"/>
            <a:ext cx="2914560" cy="34322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 fontScale="91000"/>
          </a:bodyPr>
          <a:p>
            <a:pPr marL="218160" indent="-218160">
              <a:lnSpc>
                <a:spcPct val="80000"/>
              </a:lnSpc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Taylor died the day after his 59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w Cen MT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 birthday from pneumonia in 1915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218160" indent="-218160">
              <a:lnSpc>
                <a:spcPct val="80000"/>
              </a:lnSpc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His wife died in 1949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218160" indent="-218160">
              <a:lnSpc>
                <a:spcPct val="80000"/>
              </a:lnSpc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By that time the Taylor family plot was full but Louise wanted to be buried by Fred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218160" indent="-218160">
              <a:lnSpc>
                <a:spcPct val="80000"/>
              </a:lnSpc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Her remains were cremated and the urn was placed in Fred’s grave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218160" indent="-218160">
              <a:lnSpc>
                <a:spcPct val="80000"/>
              </a:lnSpc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This was not a last effort at efficiency but necessitated by the space available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1" name="Text Box 7"/>
          <p:cNvSpPr/>
          <p:nvPr/>
        </p:nvSpPr>
        <p:spPr>
          <a:xfrm>
            <a:off x="152280" y="3946680"/>
            <a:ext cx="34290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900" spc="-1" strike="noStrike">
                <a:solidFill>
                  <a:srgbClr val="59564b"/>
                </a:solidFill>
                <a:latin typeface="Tw Cen MT"/>
              </a:rPr>
              <a:t>Taylor’s grave site at the West Laurel Hill Cemetery in Philadelphia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1200240" y="3489480"/>
            <a:ext cx="5486400" cy="5140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Taylor’s Books</a:t>
            </a:r>
            <a:endParaRPr b="0" lang="en-US" sz="2100" spc="-1" strike="noStrike">
              <a:solidFill>
                <a:srgbClr val="59564b"/>
              </a:solidFill>
              <a:latin typeface="Arial"/>
            </a:endParaRPr>
          </a:p>
        </p:txBody>
      </p:sp>
      <p:pic>
        <p:nvPicPr>
          <p:cNvPr id="753" name="Picture Placeholder 5" descr="taylor books.jpg"/>
          <p:cNvPicPr/>
          <p:nvPr/>
        </p:nvPicPr>
        <p:blipFill>
          <a:blip r:embed="rId1"/>
          <a:srcRect l="-4985" t="0" r="-4985" b="0"/>
          <a:stretch/>
        </p:blipFill>
        <p:spPr>
          <a:xfrm>
            <a:off x="1170000" y="0"/>
            <a:ext cx="5688000" cy="34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9564b"/>
                </a:solidFill>
                <a:latin typeface="Tw Cen MT"/>
              </a:rPr>
              <a:t>Taylor’s Early Years</a:t>
            </a: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pic>
        <p:nvPicPr>
          <p:cNvPr id="629" name="Picture 6" descr="taylor_family"/>
          <p:cNvPicPr/>
          <p:nvPr/>
        </p:nvPicPr>
        <p:blipFill>
          <a:blip r:embed="rId1"/>
          <a:srcRect l="0" t="-34496" r="0" b="-34496"/>
          <a:stretch/>
        </p:blipFill>
        <p:spPr>
          <a:xfrm>
            <a:off x="457200" y="1193760"/>
            <a:ext cx="2914560" cy="3432240"/>
          </a:xfrm>
          <a:prstGeom prst="rect">
            <a:avLst/>
          </a:prstGeom>
          <a:ln w="0">
            <a:noFill/>
          </a:ln>
        </p:spPr>
      </p:pic>
      <p:sp>
        <p:nvSpPr>
          <p:cNvPr id="630" name=""/>
          <p:cNvSpPr txBox="1"/>
          <p:nvPr/>
        </p:nvSpPr>
        <p:spPr>
          <a:xfrm>
            <a:off x="3633840" y="1193760"/>
            <a:ext cx="2914560" cy="34322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39760" indent="-239760"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f8e1c"/>
                </a:solidFill>
                <a:uFillTx/>
                <a:latin typeface="Tw Cen MT"/>
                <a:hlinkClick r:id="rId2"/>
              </a:rPr>
              <a:t>Frederick Taylor 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was born in Germantown, PA in 1856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239760" indent="-239760"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Father – Prosperous Lawyer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239760" indent="-239760"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Mother – Puritan roots to Colonial times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1" name="Text Box 7"/>
          <p:cNvSpPr/>
          <p:nvPr/>
        </p:nvSpPr>
        <p:spPr>
          <a:xfrm>
            <a:off x="457200" y="4021200"/>
            <a:ext cx="3124080" cy="6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64b"/>
                </a:solidFill>
                <a:latin typeface="Tw Cen MT"/>
              </a:rPr>
              <a:t>Taylor on far right, pictured with mother, father, grandfather, younger sister Mary and older brother Edwar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8280" y="171360"/>
            <a:ext cx="611532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9564b"/>
                </a:solidFill>
                <a:latin typeface="Tw Cen MT"/>
              </a:rPr>
              <a:t>Taylor’s Books</a:t>
            </a: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755" name=""/>
          <p:cNvSpPr txBox="1"/>
          <p:nvPr/>
        </p:nvSpPr>
        <p:spPr>
          <a:xfrm>
            <a:off x="458280" y="1201320"/>
            <a:ext cx="6115320" cy="33750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39760" indent="-239760"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w Cen MT"/>
              </a:rPr>
              <a:t>Shop Management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 was published in 1903.  It was based on a speech delivered earlier to the ASME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39760" indent="-239760"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ef8e1c"/>
                </a:solidFill>
                <a:uFillTx/>
                <a:latin typeface="Tw Cen MT"/>
                <a:hlinkClick r:id="rId1"/>
              </a:rPr>
              <a:t>The Principles of Scientific Management</a:t>
            </a:r>
            <a:r>
              <a:rPr b="0" lang="en-US" sz="2200" spc="-1" strike="noStrike" u="sng">
                <a:solidFill>
                  <a:srgbClr val="ef8e1c"/>
                </a:solidFill>
                <a:uFillTx/>
                <a:latin typeface="Tw Cen MT"/>
                <a:hlinkClick r:id="rId2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was published in 1911 by Harper and Row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39760" indent="-239760"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peculation exists over the true authorship of the book; although published under Taylor's name, Harper and Row paid all royalties to Morris L. Cooke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8280" y="171360"/>
            <a:ext cx="611532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9564b"/>
                </a:solidFill>
                <a:latin typeface="Tw Cen MT"/>
              </a:rPr>
              <a:t>Summary</a:t>
            </a: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757" name=""/>
          <p:cNvSpPr txBox="1"/>
          <p:nvPr/>
        </p:nvSpPr>
        <p:spPr>
          <a:xfrm>
            <a:off x="458280" y="1201320"/>
            <a:ext cx="6115320" cy="33750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39760" indent="-239760">
              <a:lnSpc>
                <a:spcPct val="90000"/>
              </a:lnSpc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Frederick W. Taylor was a central figure in the development of management thought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39760" indent="-239760">
              <a:lnSpc>
                <a:spcPct val="90000"/>
              </a:lnSpc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Taylor is considered the most influential contributor by management and business historians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39760" indent="-239760">
              <a:lnSpc>
                <a:spcPct val="90000"/>
              </a:lnSpc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His work was more reform than scientific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39760" indent="-239760">
              <a:lnSpc>
                <a:spcPct val="90000"/>
              </a:lnSpc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He willingly used others ideas that worked, like Gantt’s task and bonus incentive plan and the Hayes-Basley accounting system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8280" y="171360"/>
            <a:ext cx="611532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9564b"/>
                </a:solidFill>
                <a:latin typeface="Tw Cen MT"/>
              </a:rPr>
              <a:t>Summary</a:t>
            </a: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759" name=""/>
          <p:cNvSpPr txBox="1"/>
          <p:nvPr/>
        </p:nvSpPr>
        <p:spPr>
          <a:xfrm>
            <a:off x="458280" y="1201320"/>
            <a:ext cx="6115320" cy="33750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 fontScale="89000"/>
          </a:bodyPr>
          <a:p>
            <a:pPr marL="213120" indent="-213120">
              <a:lnSpc>
                <a:spcPct val="90000"/>
              </a:lnSpc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Frederick W. Taylor came into the industrial scene at a time when better management was needed; 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13120" indent="-213120">
              <a:lnSpc>
                <a:spcPct val="90000"/>
              </a:lnSpc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He gave credibility to the idea of managing more efficiently while paying workers higher wages; 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13120" indent="-213120">
              <a:lnSpc>
                <a:spcPct val="90000"/>
              </a:lnSpc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He foresaw the need for planning through setting standards; 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13120" indent="-213120">
              <a:lnSpc>
                <a:spcPct val="90000"/>
              </a:lnSpc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Others would extend his idea of first-class workers into better personnel management; 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13120" indent="-213120">
              <a:lnSpc>
                <a:spcPct val="90000"/>
              </a:lnSpc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He made advances in improving jobs, tools, and methods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da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/>
          </p:nvPr>
        </p:nvSpPr>
        <p:spPr>
          <a:xfrm>
            <a:off x="1200240" y="4117680"/>
            <a:ext cx="5486400" cy="5158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64b"/>
                </a:solidFill>
                <a:latin typeface="Arial"/>
              </a:rPr>
              <a:t>What contributions did Taylor make that would be considered important to management theory and practice toda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1" name="Picture Placeholder 6" descr="16864409.jpg"/>
          <p:cNvPicPr/>
          <p:nvPr/>
        </p:nvPicPr>
        <p:blipFill>
          <a:blip r:embed="rId1"/>
          <a:stretch/>
        </p:blipFill>
        <p:spPr>
          <a:xfrm>
            <a:off x="1163520" y="-6480"/>
            <a:ext cx="5700960" cy="34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9564b"/>
                </a:solidFill>
                <a:latin typeface="Tw Cen MT"/>
              </a:rPr>
              <a:t>Taylor’s Early Years</a:t>
            </a: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pic>
        <p:nvPicPr>
          <p:cNvPr id="633" name="Picture 14" descr="taylor_young"/>
          <p:cNvPicPr/>
          <p:nvPr/>
        </p:nvPicPr>
        <p:blipFill>
          <a:blip r:embed="rId1"/>
          <a:srcRect l="-27231" t="0" r="-27231" b="0"/>
          <a:stretch/>
        </p:blipFill>
        <p:spPr>
          <a:xfrm>
            <a:off x="457200" y="1193760"/>
            <a:ext cx="2914560" cy="3432240"/>
          </a:xfrm>
          <a:prstGeom prst="rect">
            <a:avLst/>
          </a:prstGeom>
          <a:ln w="0">
            <a:noFill/>
          </a:ln>
        </p:spPr>
      </p:pic>
      <p:pic>
        <p:nvPicPr>
          <p:cNvPr id="634" name="Content Placeholder 16" descr="taylo and fam.gif"/>
          <p:cNvPicPr/>
          <p:nvPr/>
        </p:nvPicPr>
        <p:blipFill>
          <a:blip r:embed="rId2"/>
          <a:srcRect l="-10781" t="0" r="-10781" b="0"/>
          <a:stretch/>
        </p:blipFill>
        <p:spPr>
          <a:xfrm>
            <a:off x="3633840" y="1193760"/>
            <a:ext cx="2914560" cy="3432240"/>
          </a:xfrm>
          <a:prstGeom prst="rect">
            <a:avLst/>
          </a:prstGeom>
          <a:ln w="0">
            <a:noFill/>
          </a:ln>
        </p:spPr>
      </p:pic>
      <p:sp>
        <p:nvSpPr>
          <p:cNvPr id="635" name="Text Box 15"/>
          <p:cNvSpPr/>
          <p:nvPr/>
        </p:nvSpPr>
        <p:spPr>
          <a:xfrm>
            <a:off x="3886200" y="4630680"/>
            <a:ext cx="234324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000" spc="-1" strike="noStrike">
                <a:solidFill>
                  <a:srgbClr val="59564b"/>
                </a:solidFill>
                <a:latin typeface="Tw Cen MT"/>
              </a:rPr>
              <a:t>Taylor, on the left, with brother Edward &amp; sister Mary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6"/>
          <p:cNvSpPr/>
          <p:nvPr/>
        </p:nvSpPr>
        <p:spPr>
          <a:xfrm>
            <a:off x="1309320" y="4707000"/>
            <a:ext cx="113292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9564b"/>
                </a:solidFill>
                <a:latin typeface="Tw Cen MT"/>
              </a:rPr>
              <a:t>Frederick Taylor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9564b"/>
                </a:solidFill>
                <a:latin typeface="Tw Cen MT"/>
              </a:rPr>
              <a:t>Taylor’s Early Years</a:t>
            </a: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pic>
        <p:nvPicPr>
          <p:cNvPr id="638" name="Picture 1029" descr=""/>
          <p:cNvPicPr/>
          <p:nvPr/>
        </p:nvPicPr>
        <p:blipFill>
          <a:blip r:embed="rId1"/>
          <a:srcRect l="-26839" t="0" r="-26839" b="0"/>
          <a:stretch/>
        </p:blipFill>
        <p:spPr>
          <a:xfrm>
            <a:off x="457200" y="1193760"/>
            <a:ext cx="2914560" cy="3432240"/>
          </a:xfrm>
          <a:prstGeom prst="rect">
            <a:avLst/>
          </a:prstGeom>
          <a:ln w="0">
            <a:noFill/>
          </a:ln>
        </p:spPr>
      </p:pic>
      <p:sp>
        <p:nvSpPr>
          <p:cNvPr id="639" name=""/>
          <p:cNvSpPr txBox="1"/>
          <p:nvPr/>
        </p:nvSpPr>
        <p:spPr>
          <a:xfrm>
            <a:off x="3633840" y="1193760"/>
            <a:ext cx="2914560" cy="34322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 fontScale="99000"/>
          </a:bodyPr>
          <a:p>
            <a:pPr marL="237240" indent="-237240">
              <a:lnSpc>
                <a:spcPct val="80000"/>
              </a:lnSpc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Advantage of fine prep school – Philips Exeter Academy, NH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237240" indent="-237240">
              <a:lnSpc>
                <a:spcPct val="80000"/>
              </a:lnSpc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Travels to Europe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237240" indent="-237240">
              <a:lnSpc>
                <a:spcPct val="80000"/>
              </a:lnSpc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Membership in an exclusive social club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237240" indent="-237240">
              <a:lnSpc>
                <a:spcPct val="80000"/>
              </a:lnSpc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Did not go to Harvard due to failing eyesight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237240" indent="-237240">
              <a:lnSpc>
                <a:spcPct val="80000"/>
              </a:lnSpc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Began as a factory apprentice pattern maker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237240" indent="-237240">
              <a:lnSpc>
                <a:spcPct val="80000"/>
              </a:lnSpc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His early experiences as a worker shaped his views of management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9564b"/>
                </a:solidFill>
                <a:latin typeface="Tw Cen MT"/>
              </a:rPr>
              <a:t>Taylor at Midvale Steel</a:t>
            </a: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457200" y="1193760"/>
            <a:ext cx="2914560" cy="34322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39760" indent="-239760"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Started as a laborer in 1878 and worked his way into management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239760" indent="-239760"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As a worker, then a first line supervisor, he observed numerous industrial practices that led him to his life’s work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642" name="Picture 6" descr="frederick_taylor_midvale"/>
          <p:cNvPicPr/>
          <p:nvPr/>
        </p:nvPicPr>
        <p:blipFill>
          <a:blip r:embed="rId1"/>
          <a:srcRect l="-15055" t="0" r="-15055" b="0"/>
          <a:stretch/>
        </p:blipFill>
        <p:spPr>
          <a:xfrm>
            <a:off x="3633840" y="1193760"/>
            <a:ext cx="2914560" cy="3432240"/>
          </a:xfrm>
          <a:prstGeom prst="rect">
            <a:avLst/>
          </a:prstGeom>
          <a:ln w="0">
            <a:noFill/>
          </a:ln>
        </p:spPr>
      </p:pic>
      <p:sp>
        <p:nvSpPr>
          <p:cNvPr id="643" name="Text Box 7"/>
          <p:cNvSpPr/>
          <p:nvPr/>
        </p:nvSpPr>
        <p:spPr>
          <a:xfrm>
            <a:off x="3809880" y="4664160"/>
            <a:ext cx="304812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900" spc="-1" strike="noStrike">
                <a:solidFill>
                  <a:srgbClr val="59564b"/>
                </a:solidFill>
                <a:latin typeface="Tw Cen MT"/>
              </a:rPr>
              <a:t>Frederick W. Taylor from his Midvale days, circa 1886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900" spc="-1" strike="noStrike">
                <a:solidFill>
                  <a:srgbClr val="59564b"/>
                </a:solidFill>
                <a:latin typeface="Tw Cen MT"/>
              </a:rPr>
              <a:t>Courtesy Frederick Winslow Taylor Collection, Samuel C. Williams Library, Stevens Institute of Technology, Hoboken NJ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9564b"/>
                </a:solidFill>
                <a:latin typeface="Tw Cen MT"/>
              </a:rPr>
              <a:t>Taylor at Midvale Steel</a:t>
            </a: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pic>
        <p:nvPicPr>
          <p:cNvPr id="645" name="Picture 6" descr="reportcard"/>
          <p:cNvPicPr/>
          <p:nvPr/>
        </p:nvPicPr>
        <p:blipFill>
          <a:blip r:embed="rId1"/>
          <a:srcRect l="-12412" t="0" r="-12412" b="0"/>
          <a:stretch/>
        </p:blipFill>
        <p:spPr>
          <a:xfrm>
            <a:off x="457200" y="1193760"/>
            <a:ext cx="2914560" cy="3432240"/>
          </a:xfrm>
          <a:prstGeom prst="rect">
            <a:avLst/>
          </a:prstGeom>
          <a:ln w="0">
            <a:noFill/>
          </a:ln>
        </p:spPr>
      </p:pic>
      <p:sp>
        <p:nvSpPr>
          <p:cNvPr id="646" name=""/>
          <p:cNvSpPr txBox="1"/>
          <p:nvPr/>
        </p:nvSpPr>
        <p:spPr>
          <a:xfrm>
            <a:off x="3633840" y="1193760"/>
            <a:ext cx="2914560" cy="34322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39760" indent="-239760"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Taylor took a home study course to get his college degree in mechanical engineering in 1883 from Stevens Institute of Technology at Hoboken, New Jersey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7" name="Text Box 5"/>
          <p:cNvSpPr/>
          <p:nvPr/>
        </p:nvSpPr>
        <p:spPr>
          <a:xfrm>
            <a:off x="437040" y="4630680"/>
            <a:ext cx="290232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9564b"/>
                </a:solidFill>
                <a:latin typeface="Tw Cen MT"/>
              </a:rPr>
              <a:t>Taylor’s “report card” from Phillips Exeter Academy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6T12:48:26Z</dcterms:created>
  <dc:creator>Julia Teahen</dc:creator>
  <dc:description/>
  <dc:language>en-US</dc:language>
  <cp:lastModifiedBy>Administratr</cp:lastModifiedBy>
  <cp:lastPrinted>2009-04-22T19:24:48Z</cp:lastPrinted>
  <dcterms:modified xsi:type="dcterms:W3CDTF">2009-08-05T20:20:27Z</dcterms:modified>
  <cp:revision>349</cp:revision>
  <dc:subject/>
  <dc:title>Seminar One </dc:title>
</cp:coreProperties>
</file>